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3BCD-5E37-4833-8437-5134A84E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5CA92-8691-4BFF-9FA9-C2997793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46EFF-E35F-4E36-9D63-750311B9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E4B16-F44C-4898-8F2A-1F011BEC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4EBC-2D7A-4672-87BA-7903FBDC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C7A4-BA45-47E1-9D91-1CE2FAAB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E0D6-958D-4364-A0EB-D40CC841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829F-B65C-42CB-859A-5363E1D2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738E-343F-49E9-BD20-92DCD85F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0333-650F-4489-8EF3-8FBB3740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695E-473A-46C1-9035-6685EB21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BF4A9-A7AB-4669-8652-E10DE110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2A04-CBD5-4FD1-8344-3C9F68D9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A684-A8C4-4FAA-8970-C052559E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9A5E-6A98-4399-ABA6-A561839E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0454-AB53-4CC0-8727-840900AD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5817-4528-4B6E-A811-7F5E5584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3A212-92D3-45FA-A9A9-FEC68A46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E7FF9-3D2B-4349-BB4A-08318B02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74388-6B4A-477C-A71F-4F3B966D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8CF59-16C4-4F8F-97E4-889C286D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20B50-81F5-4967-A8DB-8AC483BD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D91B4-54C8-4A9E-90E7-30302ADE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B80F4-1814-4EED-8967-5301A4E7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1310-1392-4FDE-8804-2DB499961C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767F-39A8-4F38-9D8E-DF5FB18712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7875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рядок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оздания реорганизации, изменения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ипа и ликвидации федерального государственного учреждения и порядок отнесения к категории особо ценного движимого имущества государственного (муниципального) бюджетного или автономного учре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9640" y="4868640"/>
            <a:ext cx="8452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Докладчик: Старовойтов А.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заместитель директора Департамента государственного управления, регионального развития и местного самоуправления                          Аппарата Правительства Российской Федер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983280" y="1700280"/>
            <a:ext cx="2160720" cy="957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308640"/>
            <a:ext cx="9144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г. Моск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221000"/>
            <a:ext cx="29163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4 июня 2010 г.                                               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Создание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324000" y="213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дготовка ФОИВ-СБП проекта РП РФ о создании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324000" y="2924280"/>
            <a:ext cx="856908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дготовка ФОИВ-СБП пояснительной записки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роекту РП РФ о создании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324000" y="3789360"/>
            <a:ext cx="856908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гласование проекта РП РФ с Минфином России и МЭР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324000" y="4508640"/>
            <a:ext cx="856908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ринятие РП РФ о создании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324000" y="537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тверждение Устава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324000" y="6093000"/>
            <a:ext cx="856908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Государственная регистрация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4643280" y="2637000"/>
            <a:ext cx="0" cy="28728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4643280" y="357336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4643280" y="429264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4"/>
          <p:cNvSpPr/>
          <p:nvPr/>
        </p:nvSpPr>
        <p:spPr>
          <a:xfrm>
            <a:off x="4643280" y="515772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5"/>
          <p:cNvSpPr/>
          <p:nvPr/>
        </p:nvSpPr>
        <p:spPr>
          <a:xfrm>
            <a:off x="4643280" y="587700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D507E-44BA-4704-838B-1FD15CE8F0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39280" y="692280"/>
            <a:ext cx="8209080" cy="11527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Реорганизация федерального учреждения может быть осуществлена в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771640" y="2781360"/>
            <a:ext cx="1800360" cy="107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ли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179280" y="278136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ffce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рисо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4859280" y="2781360"/>
            <a:ext cx="1944720" cy="107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раз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7093080" y="2781360"/>
            <a:ext cx="1871640" cy="107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ы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324000" y="4797360"/>
            <a:ext cx="8640720" cy="187164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ПРЕОБРАЗОВАНИЕ Ф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НКО иной формы или в хозяйственное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допускается только в случаях и в предел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установленных законодательством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8"/>
          <p:cNvSpPr/>
          <p:nvPr/>
        </p:nvSpPr>
        <p:spPr>
          <a:xfrm>
            <a:off x="250920" y="3933720"/>
            <a:ext cx="201600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равовой ак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ФОИВа СП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9"/>
          <p:cNvSpPr/>
          <p:nvPr/>
        </p:nvSpPr>
        <p:spPr>
          <a:xfrm>
            <a:off x="2771640" y="3933720"/>
            <a:ext cx="6193080" cy="2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РП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655A-856D-4BEA-8EFD-EF2F898F39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39280" y="691920"/>
            <a:ext cx="8209080" cy="7207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организ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95280" y="2060640"/>
            <a:ext cx="3600360" cy="230328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Право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ФОИВ-СБ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о ре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4859280" y="2060640"/>
            <a:ext cx="3962520" cy="4248000"/>
          </a:xfrm>
          <a:prstGeom prst="wedgeRoundRectCallout">
            <a:avLst>
              <a:gd name="adj1" fmla="val -78925"/>
              <a:gd name="adj2" fmla="val -31129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ИВ, который будет осуществл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ункции и полномочия учредителя подготавли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ект правового акта ФОИВ-СБП о реорганизации ФГУ по согласованию с Минфином России и МЭР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яснительную запис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95280" y="4724280"/>
            <a:ext cx="3960720" cy="1944720"/>
          </a:xfrm>
          <a:prstGeom prst="wedgeRoundRectCallout">
            <a:avLst>
              <a:gd name="adj1" fmla="val -35129"/>
              <a:gd name="adj2" fmla="val -68365"/>
              <a:gd name="adj3" fmla="val 16667"/>
            </a:avLst>
          </a:prstGeom>
          <a:noFill/>
          <a:ln w="28440">
            <a:solidFill>
              <a:srgbClr val="0000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50021"/>
                </a:solidFill>
                <a:latin typeface="Times New Roman"/>
              </a:rPr>
              <a:t>в случае изменения по результатам реорганизации подведомственности ФГУ, принимаетс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a50021"/>
                </a:solidFill>
                <a:latin typeface="Times New Roman"/>
              </a:rPr>
              <a:t>РП РФ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7C78-8AD1-41CC-96D3-19EFBAF1B2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Реорганиз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324000" y="213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роекта правового акта о реорганиз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324000" y="2924280"/>
            <a:ext cx="856908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ояснительной записки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оекту правового акта о реорганиз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324000" y="3789360"/>
            <a:ext cx="856908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Согласование проекта правового а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с Минфином России и МЭР России (если это РП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324000" y="4724280"/>
            <a:ext cx="8569080" cy="432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инятие правового акта о реорганиз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324000" y="537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Изменение Устава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324000" y="6093000"/>
            <a:ext cx="856908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Государственная регистрация соответствующих изме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4643280" y="2637000"/>
            <a:ext cx="0" cy="28728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4643280" y="357336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4643280" y="4508640"/>
            <a:ext cx="0" cy="215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4643280" y="515772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4643280" y="587700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36669-D542-4DF1-A1CF-C2AF3888D0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39280" y="764640"/>
            <a:ext cx="8209080" cy="8647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Изменение типа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324000" y="2421000"/>
            <a:ext cx="4248000" cy="1873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)</a:t>
            </a: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 Изменение ти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уществующего ФГУ в цел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здания федер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казенного или бюджет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24000" y="4724280"/>
            <a:ext cx="8640720" cy="165744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ИЗМЕНЕНИЕ ТИПА ФГ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НЕ ЯВЛЯЕТСЯ ЕГО РЕОРГАНИЗ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4716360" y="2421000"/>
            <a:ext cx="4248360" cy="1873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)</a:t>
            </a: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 Изменение ти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уществующего ФГУ в цел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здания федер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автоно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28AA3-E72E-4728-9721-8DC74E0D8E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Изменение типа ФГУ в целях создания казенного 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324000" y="2637000"/>
            <a:ext cx="3600360" cy="324000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Распоря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ительств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643280" y="2349360"/>
            <a:ext cx="4105440" cy="4104000"/>
          </a:xfrm>
          <a:prstGeom prst="wedgeRoundRectCallout">
            <a:avLst>
              <a:gd name="adj1" fmla="val -76296"/>
              <a:gd name="adj2" fmla="val 1296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ОИВ-СБП подготавлива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оект РП РФ об изменении типа ФГУ по согласованию с Минфином России и МЭР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ояснительную запис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6E9A3-EEF7-4EE2-AFAF-A830BAF97E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Изменение типа ФГУ в целях создания бюджет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324000" y="2637000"/>
            <a:ext cx="3600360" cy="324000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о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ОИВ-СБ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об изменении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4643280" y="2349360"/>
            <a:ext cx="4105440" cy="4104000"/>
          </a:xfrm>
          <a:prstGeom prst="wedgeRoundRectCallout">
            <a:avLst>
              <a:gd name="adj1" fmla="val -76296"/>
              <a:gd name="adj2" fmla="val 1296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ФОИВ, осуществляющ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функции и полномочия учредителя подготавливает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оект правового акта ФОИВ-СБП об изменении типа ФГУ по согласованию +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ояснительную записк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0EB2E-171A-4809-9187-0D8E0B1173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Изменение типа ФГУ в целях создания казенного или бюджет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24000" y="213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роекта правового акта об изменении типа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24000" y="2924280"/>
            <a:ext cx="856908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ояснительной записки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оекту правового акта об изменении типа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3789360"/>
            <a:ext cx="856908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Согласование проекта правового а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с Минфином России и МЭР России (если это РП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324000" y="4724280"/>
            <a:ext cx="8569080" cy="432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инятие правового акта об изменении типа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324000" y="5373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Изменение Устава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324000" y="6093000"/>
            <a:ext cx="856908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Государственная регистрация соответствующих изме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4643280" y="2637000"/>
            <a:ext cx="0" cy="28728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4643280" y="357336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4643280" y="4508640"/>
            <a:ext cx="0" cy="215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>
            <a:off x="4643280" y="515772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4643280" y="5877000"/>
            <a:ext cx="0" cy="216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64444-5152-455E-BDC6-6B82C82483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Изменение типа ФГУ в целях создания автоном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324000" y="2276640"/>
            <a:ext cx="3600360" cy="230328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о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ОИВ-СБ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об изменении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4643280" y="2349360"/>
            <a:ext cx="4105440" cy="3240360"/>
          </a:xfrm>
          <a:prstGeom prst="wedgeRoundRectCallout">
            <a:avLst>
              <a:gd name="adj1" fmla="val -74439"/>
              <a:gd name="adj2" fmla="val -24620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ИВ, осуществля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ункции и полномочия учредителя подготавли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предложение об изменении типа ФГУ по согласованию с МЭР России по инициативе либо с согласия учрежд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 flipH="1">
            <a:off x="3492360" y="3933720"/>
            <a:ext cx="1586160" cy="11509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250920" y="5013360"/>
            <a:ext cx="4176720" cy="165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Предложение дол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соответствовать требован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ФЗ «Об АУ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+  форме предлож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утверждаемой Правительством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3C47E-7A23-40CC-9F22-B2D61BB588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Ликвид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24000" y="2637000"/>
            <a:ext cx="3600360" cy="324000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о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ОИВ-СБ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о ликвид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4643280" y="2349360"/>
            <a:ext cx="4105440" cy="3888000"/>
          </a:xfrm>
          <a:prstGeom prst="wedgeRoundRectCallout">
            <a:avLst>
              <a:gd name="adj1" fmla="val -76296"/>
              <a:gd name="adj2" fmla="val 4143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ОИВ, осуществляющ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ункции и полномочия учредителя подготавлива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оект правового акта ФОИВ-СБП о ликвидации ФГ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ояснительную запис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05D33-083F-439A-8828-FF94B66928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1042920" y="981000"/>
            <a:ext cx="71294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Проект постановления Правительства Российской Федерации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«Об утверждении порядка создания, реорганизации, изменения типа и ликвидации федеральных государственных учреждений, а также утверждения уставов федеральных государственных учреждений и внесения в них изменений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B39A6-C9DC-4650-9C44-5BF631D6AE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Ликвид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24000" y="2133720"/>
            <a:ext cx="8569080" cy="93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роекта правового акта о ликвид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324000" y="3573360"/>
            <a:ext cx="8569080" cy="935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одготовка ФОИВ пояснительной записки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проекту правового акта о ликвид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324000" y="5013360"/>
            <a:ext cx="8569080" cy="792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imes New Roman"/>
              </a:rPr>
              <a:t>Принятие правового акта</a:t>
            </a: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6600"/>
                </a:solidFill>
                <a:latin typeface="Times New Roman"/>
              </a:rPr>
              <a:t>ФОИВ-СБП о ликвидации Ф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4643280" y="3068640"/>
            <a:ext cx="0" cy="504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4643280" y="4508640"/>
            <a:ext cx="0" cy="504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8"/>
          <p:cNvSpPr/>
          <p:nvPr/>
        </p:nvSpPr>
        <p:spPr>
          <a:xfrm>
            <a:off x="6877080" y="6021360"/>
            <a:ext cx="1079640" cy="64764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6AD92-F49F-4329-A1EB-FFDAC5FC3B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Ликвид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116000" y="2133720"/>
            <a:ext cx="7128000" cy="93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ФОИВ (учредит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971640" y="3429000"/>
            <a:ext cx="7272360" cy="2448000"/>
          </a:xfrm>
          <a:prstGeom prst="wedgeRoundRectCallout">
            <a:avLst>
              <a:gd name="adj1" fmla="val -2717"/>
              <a:gd name="adj2" fmla="val -63166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доводит правовой акт ФОИВ-СБП до сведения регистрирующего орган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тверждает состав ликвидационной комисс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станавливает порядок и сроки ликвидации соответствующего ФГ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6948360" y="6021360"/>
            <a:ext cx="1079640" cy="64764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0FEAB-14A8-4007-9BAD-9BBE04661E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Ликвид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16000" y="2060640"/>
            <a:ext cx="7128000" cy="93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квидационная коми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971640" y="3429000"/>
            <a:ext cx="7272360" cy="2736720"/>
          </a:xfrm>
          <a:prstGeom prst="wedgeRoundRectCallout">
            <a:avLst>
              <a:gd name="adj1" fmla="val -1842"/>
              <a:gd name="adj2" fmla="val -65486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уществляет полномочия по управления делами ликвидируемого ФГ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дготавливает и представляет для утверждения ФОИВ (учредителю) промежуточный и окончательный ликвидационный балан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уществляет иные мероприятия по ликвидации ФГУ, предусмотренные законодательством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7885080" y="6021360"/>
            <a:ext cx="1079640" cy="64764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EFF49-5520-4F09-85F3-6AE5E40BBD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39280" y="692280"/>
            <a:ext cx="8209080" cy="81612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Ликвидация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539640" y="2205000"/>
            <a:ext cx="8209080" cy="1511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ередача имущества ФГУ, в том числе, оставшегося пос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довлетворения требований кредиторов, ФОИ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осуществляющему функции по управлению имущест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539640" y="4221000"/>
            <a:ext cx="8209080" cy="576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Закрытие лицевых счетов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539640" y="5300640"/>
            <a:ext cx="8209080" cy="936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несение записи в ЕГРЮЛ о прекращении существ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ответствующего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4643280" y="3716280"/>
            <a:ext cx="0" cy="504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4643280" y="4797360"/>
            <a:ext cx="0" cy="50328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11D37-42DB-4E5A-9C95-79050B8DE7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Утверждение (изменение) устава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324000" y="2349360"/>
            <a:ext cx="4032000" cy="374364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о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ОИВ (учредител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об утверж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(изменен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ст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4643280" y="2349360"/>
            <a:ext cx="4105440" cy="3888000"/>
          </a:xfrm>
          <a:prstGeom prst="wedgeRoundRectCallout">
            <a:avLst>
              <a:gd name="adj1" fmla="val -68870"/>
              <a:gd name="adj2" fmla="val 1532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оект правового акта ФОИВ (учредителя) об утверждении (изменении) Устава ФГУ согласовывается с Минфином Росс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МЭР Росс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ФОИВ-СБ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1E38-4DD2-4D1C-AF3E-FF8969591A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УСТАВ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КУ или БУ должен содерж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539640" y="2276640"/>
            <a:ext cx="8209080" cy="1081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Общие сведения об учреждении (наименование, ти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местонахождение, наименование учредител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бственника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539640" y="3645000"/>
            <a:ext cx="8209080" cy="863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труктуру, компетенцию органов управления, порядок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ормирования и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39640" y="4797360"/>
            <a:ext cx="8209080" cy="576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Исчерпывающий перечень видо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684360" y="5805360"/>
            <a:ext cx="180000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основн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деятель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2987640" y="5805360"/>
            <a:ext cx="180036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иных вид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деятель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5292720" y="5805360"/>
            <a:ext cx="331164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приносящей доходы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деятель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1619280" y="5373720"/>
            <a:ext cx="0" cy="431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3851280" y="5373720"/>
            <a:ext cx="0" cy="431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6948360" y="5373720"/>
            <a:ext cx="0" cy="431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4E2C0-FB6C-41D8-BAED-B24079B93F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9280" y="691920"/>
            <a:ext cx="8209080" cy="9122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УСТАВ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КУ или БУ должен содерж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539640" y="2276640"/>
            <a:ext cx="8209080" cy="1081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рядок распоряжения имуществом, приобретен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КУ или БУ за счет доходов от приносящей до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539640" y="3573360"/>
            <a:ext cx="8209080" cy="863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рядок передачи КУ или БУ денежных средств НКО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качестве их учредителя или участ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539640" y="4724280"/>
            <a:ext cx="8209080" cy="792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рядок осуществления крупных сделок или сдел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 совершении которых имеется заинтерес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539640" y="5805360"/>
            <a:ext cx="8209080" cy="792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Запрет на совершение сделок, возможными последств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которых является обременение или отчуждение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7E87E-5A5F-485C-BC2A-2BD0935A75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280" y="692280"/>
            <a:ext cx="8209080" cy="81720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УСТАВ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КУ или БУ должен содерж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539640" y="2276640"/>
            <a:ext cx="8209080" cy="502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ложения об открытии лицевых сч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468360" y="2997360"/>
            <a:ext cx="8209080" cy="86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ложения о ликвидации КУ или БУ и распоряж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бственником имуществом ликвидируемого 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539640" y="4797360"/>
            <a:ext cx="8209080" cy="792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казание на субсидиарную ответственность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 обязательствам 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539640" y="4076640"/>
            <a:ext cx="820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ведения о филиалах и представительст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F6B2F-249A-4C8F-BFCC-228735DF79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5"/>
          <p:cNvSpPr/>
          <p:nvPr/>
        </p:nvSpPr>
        <p:spPr>
          <a:xfrm>
            <a:off x="611280" y="1557360"/>
            <a:ext cx="2952720" cy="180036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Постано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Правитель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Р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539640" y="4221000"/>
            <a:ext cx="2952720" cy="180036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Действующ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уставы ФГ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4284720" y="1700280"/>
            <a:ext cx="4174920" cy="1008000"/>
          </a:xfrm>
          <a:prstGeom prst="wedgeRoundRectCallout">
            <a:avLst>
              <a:gd name="adj1" fmla="val -72166"/>
              <a:gd name="adj2" fmla="val 52361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тупает в силу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января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>
            <a:off x="3995640" y="3645000"/>
            <a:ext cx="4608720" cy="2303280"/>
          </a:xfrm>
          <a:prstGeom prst="wedgeRoundRectCallout">
            <a:avLst>
              <a:gd name="adj1" fmla="val -66949"/>
              <a:gd name="adj2" fmla="val 30013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должны быть приведены в соответствие с требовани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П РФ и примерными устав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до 1 июня 2011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29FDE-380F-4F79-8E18-FE2149CA99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1042920" y="1413000"/>
            <a:ext cx="71294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Проект постановления Правительства РФ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«О порядке отнесения имущества автономного или бюджетного учреждения к категории особо ценного движимого имуществ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C4FB1-214A-4CD4-A3B9-4076F19C7A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5"/>
          <p:cNvSpPr/>
          <p:nvPr/>
        </p:nvSpPr>
        <p:spPr>
          <a:xfrm>
            <a:off x="755640" y="765000"/>
            <a:ext cx="7561440" cy="1440000"/>
          </a:xfrm>
          <a:prstGeom prst="downArrowCallout">
            <a:avLst>
              <a:gd name="adj1" fmla="val 134837"/>
              <a:gd name="adj2" fmla="val 132126"/>
              <a:gd name="adj3" fmla="val 16616"/>
              <a:gd name="adj4" fmla="val 66667"/>
            </a:avLst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ЦЕЛИ РАЗРАБОТКИ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68360" y="2637000"/>
            <a:ext cx="83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492280"/>
            <a:ext cx="8209080" cy="79236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реализации поло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Федерального закона от 8 мая 2010 г. № 83-Ф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539640" y="3645000"/>
            <a:ext cx="8209080" cy="79200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систематизация и объединение правовых нор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в едином подзаконном НП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39640" y="4797360"/>
            <a:ext cx="8280360" cy="165600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совершенствование и упрощение процед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создания, реорганизации, изменения тип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квидации и утверждения (изменения) устав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федеральных государственных учрежден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75DB9-BCBE-4015-BA23-B119C43578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072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Структура полномочий органов публичной власти по установлению видов и перечней особо ценного движимого имущества автономных и бюджет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95280" y="2193840"/>
          <a:ext cx="8497800" cy="4087800"/>
        </p:xfrm>
        <a:graphic>
          <a:graphicData uri="http://schemas.openxmlformats.org/drawingml/2006/table">
            <a:tbl>
              <a:tblPr/>
              <a:tblGrid>
                <a:gridCol w="3957480"/>
                <a:gridCol w="454032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Полномоч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Орган публичной вла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тановление порядка отнесения имущества к категории особо ценного движимого имуществ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авительство Российской Федерац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аво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по определению видов особо ценного движимого имуществ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еральные органы исполнительной власти (федеральные органы госвласти, руководство деятельностью которых осуществляет Президент РФ или Правительство РФ) – в отношении федеральных АУ и Б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сшие исполнительные органы госвласти субъектов РФ – в отношении АУ и БУ субъектов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стные администрации – в отношении муниципальных АУ и БУ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ределение перечней особо ценного движимого имуществ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ы, осуществляющие функции и полномочия учредителей АУ и БУ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88B54-8CF2-4FC6-8B7B-A434900689E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404280"/>
            <a:ext cx="8001000" cy="11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Определение видов особо ценного движимого имущества автоном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24000" y="1752480"/>
          <a:ext cx="8569080" cy="4910400"/>
        </p:xfrm>
        <a:graphic>
          <a:graphicData uri="http://schemas.openxmlformats.org/drawingml/2006/table">
            <a:tbl>
              <a:tblPr/>
              <a:tblGrid>
                <a:gridCol w="4286160"/>
                <a:gridCol w="4282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Нормативное правовое регулирование до принятия ФЗ от 08.05.2010 №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Arial"/>
                          <a:ea typeface="Arial"/>
                        </a:rPr>
                        <a:t>Нормативное правовое регулирование в связи с принятием ФЗ от 08.05.2010 №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ы особо ценного движимого имущества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ределяются в порядке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устанавливаемом Правительством РФ (ФЗ от 3.11.2006 №174-ФЗ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ределены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федеральных АУ – Постановлением Правительства РФ от 31.05.2007 №337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АУ субъектов РФ – порядками, утвержденными высшими исполнительными органами госвласти субъектов РФ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муниципальных АУ – порядками, утвержденными местными администрациям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рядок отнесения имущества к особо ценному недвижимому – Правительство Р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ы особо ценного движимого имущества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могут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определятьс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федеральных АУ – федеральными органами исполнительной власти и органами государственной власти, руководство деятельностью которых осуществляет Президент РФ или Правительство РФ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АУ субъектов РФ – порядками, утвержденными высшими исполнительными органами госвласти субъектов РФ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муниципальных АУ – порядками, утвержденными местными администраци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FD1F-843B-4D99-A924-11B459DCF5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Определение видов особо ценного движимого имущества бюджет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50920" y="1628640"/>
          <a:ext cx="8424720" cy="464508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Нормативное правовое регулирование до принятия ФЗ от 08.05.2010 №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Нормативное правовое регулирование в связи с принятием ФЗ от 08.05.2010 №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определялис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рядок отнесения имущества к особо ценному недвижимому – Правительство Р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ы особо ценного движимого имуществ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гут определятьс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федеральных БУ – федеральными органами исполнительной власти и органами государственной власти, руководство деятельностью которых осуществляет Президент РФ или Правительство РФ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БУ субъектов РФ – порядками, утвержденными высшими исполнительными органами госвласти субъектов РФ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муниципальных БУ – порядками, утвержденными местными администраци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D82C0-2AC3-418D-B17C-0B39B63790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Критерии отнесения имущества автономных учреждений к категории особо ценного движимого им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0" y="1217520"/>
          <a:ext cx="9144000" cy="5640480"/>
        </p:xfrm>
        <a:graphic>
          <a:graphicData uri="http://schemas.openxmlformats.org/drawingml/2006/table">
            <a:tbl>
              <a:tblPr/>
              <a:tblGrid>
                <a:gridCol w="1490760"/>
                <a:gridCol w="3132000"/>
                <a:gridCol w="452124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Тип учрежд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Критерии до принятия ФЗ от 08.05.2010 № 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Критерии, устанавливаемые в соответствии с ФЗ от 08.05.2010 №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втономное учрежд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ля федеральных АУ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мущество, без которого осуществление уставной деятельности существенно затруднен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алансовая стоимость которого превышает 500 тыс. рублей (ППРФ от 31.05.2007 №337 в ред. ППРФ от 05.08.2009 №639 – ранее 50 тыс.рублей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тчуждение которого осуществляется в специальном порядке, установленном ФЗ и иными федеральными НП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ля АУ субъектов РФ и муниципальных АУ: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порядках, установленных высшими исполнительными органами госвласти субъектов РФ и органами МСУ с учетом требований ППРФ от 31.05.2007 №3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)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вижимое имущество, балансовая стоимость которого превышает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ФОИВом в интервале от 200 до 500 тысяч рублей – для федеральных автономных и бюджетных учрежден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НПА высшего исполнительного органа госвласти субъекта Российской Федерации  в интервале от 50 до 500 тысяч рублей, - для автономных и бюджетных учреждений субъекта РФ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правовым актом местной администрации в интервале от 50 до 200 тысяч рублей, - для муниципальных автономных и бюджетных учрежден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)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ое движимое имущество, без которого осуществление автономным или бюджетным учреждением своей основной деятельности будет существенно затруднено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) движимое имущество, отчуждение которого осуществляется в специальном порядке, установленном ФЗ и иными федеральными НПА (культурные ценности и др.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5B79-1B82-4AEB-B4E6-1672235244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Критерии отнесения имущества бюджетных учреждений к категории особо ценного движимого им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79280" y="1628640"/>
          <a:ext cx="8785440" cy="5072040"/>
        </p:xfrm>
        <a:graphic>
          <a:graphicData uri="http://schemas.openxmlformats.org/drawingml/2006/table">
            <a:tbl>
              <a:tblPr/>
              <a:tblGrid>
                <a:gridCol w="1581120"/>
                <a:gridCol w="2372040"/>
                <a:gridCol w="48322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Тип учрежд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Критерии до принятия ФЗ от 08.05.2010 № 83-Ф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7d"/>
                          </a:solidFill>
                          <a:latin typeface="Times New Roman"/>
                          <a:ea typeface="Arial"/>
                        </a:rPr>
                        <a:t>Критерии, устанавливаемые в соответствии с ФЗ от 08.05.2010 №83-Ф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юджетное учрежде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устанавливалис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)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вижимое имущество, балансовая стоимость которого превышает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ФОИВом в интервале от 200 до 500 тысяч рублей – для федеральных автономных и бюджетных учрежден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НПА высшего исполнительного органа госвласти субъекта Российской Федерации  в интервале от 50 до 500 тысяч рублей, - для автономных и бюджетных учреждений субъекта РФ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9999cc"/>
                        </a:buClr>
                        <a:buSzPct val="7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мер, установленный правовым актом местной администрации в интервале от 50 до 200 тысяч рублей, - для муниципальных автономных и бюджетных учрежден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)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ое движимое имущество, без которого осуществление автономным или бюджетным учреждением своей основной деятельности будет существенно затруднено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) движимое имущество, отчуждение которого осуществляется в специальном порядке, установленном ФЗ и иными федеральными НПА (культурные ценности и др.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3D9D6-05CB-45CC-9D1D-FDA171F2170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755640" y="692280"/>
            <a:ext cx="7561440" cy="1081080"/>
          </a:xfrm>
          <a:prstGeom prst="downArrowCallout">
            <a:avLst>
              <a:gd name="adj1" fmla="val 179603"/>
              <a:gd name="adj2" fmla="val 175991"/>
              <a:gd name="adj3" fmla="val 16616"/>
              <a:gd name="adj4" fmla="val 66667"/>
            </a:avLst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Действующее правовое регу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4000" y="1989000"/>
          <a:ext cx="8569080" cy="433260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СОЗД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ПП РФ от 10.02.2004 г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ФЗ «Об АУ» (ст. 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ПП РФ от 24.12.2007 №9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ПП РФ от 28.05.2007 №325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РЕОРГА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ПП РФ от 10.02.2004 г. №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ФЗ «Об АУ» (ст. 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ИЗМЕНЕНИЕ ТИ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ЛИКВИД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орма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П РФ от 10.02.2004 г. №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орма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З «Об АУ» (ст. 1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УТВЕР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ИЗМЕНЕНИЕ УСТ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орма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П РФ от 10.02.2004 г. №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орма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ФЗ «Об АУ» (ст.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FCBBB-E917-4602-A99F-5BB9D2FCB3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9280" y="691920"/>
            <a:ext cx="8209080" cy="10310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Основные проблемы действующего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95280" y="2565360"/>
            <a:ext cx="8424720" cy="122400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Наличие правовых пробелов в вопросах регулир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процедур изменения типа и ликвидации БУ и А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утверждения (изменения) устав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95280" y="4221000"/>
            <a:ext cx="8424720" cy="57492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Низкая степень детализации процедурных нор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95280" y="5229360"/>
            <a:ext cx="8496360" cy="93492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Большое количество отсылочных и перекрестных норм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закрепленных в ведомственных акт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70F9C-6EC9-4860-91F1-2A46FA46CA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324000" y="907920"/>
            <a:ext cx="2808000" cy="2016360"/>
          </a:xfrm>
          <a:prstGeom prst="verticalScroll">
            <a:avLst>
              <a:gd name="adj" fmla="val 12500"/>
            </a:avLst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Про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постанов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ocument"/>
          <p:cNvSpPr/>
          <p:nvPr/>
        </p:nvSpPr>
        <p:spPr>
          <a:xfrm>
            <a:off x="5651640" y="692280"/>
            <a:ext cx="3097080" cy="3457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00"/>
                </a:solidFill>
                <a:latin typeface="Times New Roman"/>
              </a:rPr>
              <a:t>Порядок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336600"/>
                </a:solidFill>
                <a:latin typeface="Times New Roman"/>
              </a:rPr>
              <a:t>создания, реорганизации, изменения типа, ликвидации ФГУ, а также утверждения уставов ФГУ и внесения в них изменений</a:t>
            </a:r>
            <a:r>
              <a:rPr b="0" lang="en-US" sz="19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059280" y="1628640"/>
            <a:ext cx="2449440" cy="865440"/>
          </a:xfrm>
          <a:prstGeom prst="rightArrow">
            <a:avLst>
              <a:gd name="adj1" fmla="val 50000"/>
              <a:gd name="adj2" fmla="val 7075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ТВЕРЖ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1332000" y="306864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24000" y="4221000"/>
            <a:ext cx="8640720" cy="252108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 Narrow"/>
              </a:rPr>
              <a:t>УТРАЧИВАЮТ СИ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П РФ от 10.02.2004 г. №7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«О создании, реорганизации и ликвид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ых государственных учреждений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П РФ от 24.12.2007 г. №92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«Об утверждении правил подгот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дложений о создании федеральных автономных учрежд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утем изменения типа существующих федер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осударственных учрежде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05449-04BB-46D9-B889-8688847F07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ocument"/>
          <p:cNvSpPr/>
          <p:nvPr/>
        </p:nvSpPr>
        <p:spPr>
          <a:xfrm>
            <a:off x="2484360" y="836640"/>
            <a:ext cx="3743280" cy="1800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распространяется на:</a:t>
            </a: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11280" y="3141720"/>
            <a:ext cx="2016000" cy="107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ОИВ - СБ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6227640" y="3068640"/>
            <a:ext cx="2665440" cy="1655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ОИ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осуществля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ункци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полномоч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дителя Ф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3348000" y="3933720"/>
            <a:ext cx="2087640" cy="1152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едер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каз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611280" y="5229360"/>
            <a:ext cx="2268360" cy="1152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едер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бюдже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5796000" y="5300640"/>
            <a:ext cx="2268360" cy="1152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федер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автоном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1979640" y="2421000"/>
            <a:ext cx="792000" cy="720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4356000" y="2637000"/>
            <a:ext cx="0" cy="129672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 flipH="1">
            <a:off x="2555640" y="2637000"/>
            <a:ext cx="863640" cy="259236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6227640" y="2276640"/>
            <a:ext cx="1584360" cy="79200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5435640" y="2637000"/>
            <a:ext cx="720720" cy="2663640"/>
          </a:xfrm>
          <a:prstGeom prst="line">
            <a:avLst/>
          </a:prstGeom>
          <a:ln w="44280">
            <a:solidFill>
              <a:srgbClr val="00007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819D0-DEB3-49A1-B901-684EBAE3F5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ocument"/>
          <p:cNvSpPr/>
          <p:nvPr/>
        </p:nvSpPr>
        <p:spPr>
          <a:xfrm>
            <a:off x="2484360" y="692280"/>
            <a:ext cx="3888000" cy="1584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состоит из следующих разделов:</a:t>
            </a:r>
            <a:r>
              <a:rPr b="1" lang="en-US" sz="22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324000" y="2565360"/>
            <a:ext cx="8569080" cy="574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Общие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324000" y="3284640"/>
            <a:ext cx="8569080" cy="574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Создание федер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324000" y="4005360"/>
            <a:ext cx="8569080" cy="574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Реорганизация федер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324000" y="4724280"/>
            <a:ext cx="8569080" cy="57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Изменение типа федер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324000" y="5445000"/>
            <a:ext cx="8569080" cy="57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Ликвидация федер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324000" y="616572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Утверждение (изменение) уставов федеральных учрежд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DB169-9519-4B34-A01C-EC5C845FF0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39280" y="691920"/>
            <a:ext cx="8209080" cy="1031040"/>
          </a:xfrm>
          <a:prstGeom prst="rect">
            <a:avLst/>
          </a:prstGeom>
          <a:solidFill>
            <a:srgbClr val="c8d6ce"/>
          </a:solidFill>
          <a:ln w="2844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Создание федерального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324000" y="2852640"/>
            <a:ext cx="3600360" cy="280836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Распоря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Правительства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о созд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4932360" y="2637000"/>
            <a:ext cx="3889440" cy="3671640"/>
          </a:xfrm>
          <a:prstGeom prst="wedgeRoundRectCallout">
            <a:avLst>
              <a:gd name="adj1" fmla="val -83305"/>
              <a:gd name="adj2" fmla="val 1449"/>
              <a:gd name="adj3" fmla="val 16667"/>
            </a:avLst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ИВ-СБП подготавли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ект РП РФ о создании ФГУ по согласованию с Минфином России и МЭР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яснительную запи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F2BB2-7213-4181-8787-8E6BF8C4B4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09:58:06Z</dcterms:created>
  <dc:creator>admcto</dc:creator>
  <dc:description/>
  <dc:language>en-US</dc:language>
  <cp:lastModifiedBy>admcto</cp:lastModifiedBy>
  <dcterms:modified xsi:type="dcterms:W3CDTF">2010-06-22T11:40:20Z</dcterms:modified>
  <cp:revision>5</cp:revision>
  <dc:subject/>
  <dc:title>Порядок создания реорганизации, изменения типа и ликвидации ФГУ и порядок отнесения к категории особо ценного движимого имущества государственного (муниципального) бюджетного или автономного учреждения</dc:title>
</cp:coreProperties>
</file>