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7932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917640" y="744120"/>
            <a:ext cx="49593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78960" y="4712760"/>
            <a:ext cx="54356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942336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48040" y="942336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6EB4-108E-40BE-82C8-FA09F29E86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49840" y="942660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082046-EA66-4E07-9F5F-7AB96D6F5A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07560" y="4711320"/>
            <a:ext cx="4978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78960" y="4712760"/>
            <a:ext cx="54356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4250-02D7-43D9-94AD-75FB2447B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FF38-2245-4EF8-A5AF-4A49B4F2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F320-BFB8-4250-886B-571E4871B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F022-B452-4AA0-8886-AA8552F7A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5751-097D-48AB-BC80-3D3A1C75B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4847-8530-45BB-BE66-CF6A8764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9E88-2ADD-44AB-B797-93749F3A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4C6C-7720-4C3A-87E8-ACA544D9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14FE-F200-417F-95C8-EB3099AF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065D-994E-47EB-B3B6-D6E7E2C1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DA5A-485A-485C-BEDB-C3AFB02E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AE6F-7524-4AEE-BE66-58E95685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CC10-917D-458F-ABD2-C2922F76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BDB3-2391-4F33-AB66-1DBC36B7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9119-57A5-4B9A-940E-0CC9585D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3706-689D-4D69-98BA-3ED5CB744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13B1-7723-4586-9451-27DE9FE6F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44D0-597B-4E0C-8B25-3DAF6994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C49D-AFF6-4490-AE54-01C4625F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06D1-94A5-463D-B467-12FAD89D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A8A3-8A0D-4271-9AD0-AB9A2F67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D25D-6057-43DF-BADE-BD441807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6A1A-9DE4-49A6-A65D-E321B4DC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3D8A-C297-4154-8DC4-52AF8181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AB98-1A6F-43E0-807B-084841353C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4eb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F665-E362-4A54-9713-6F6620DE58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258920" y="1844640"/>
            <a:ext cx="727236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Федеральный зако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от 8 мая 2010 г. № 83-Ф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1" descr="MF_emblema [Converted]"/>
          <p:cNvPicPr/>
          <p:nvPr/>
        </p:nvPicPr>
        <p:blipFill>
          <a:blip r:embed="rId1"/>
          <a:stretch/>
        </p:blipFill>
        <p:spPr>
          <a:xfrm>
            <a:off x="785880" y="857160"/>
            <a:ext cx="879480" cy="10828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"/>
          <p:cNvSpPr/>
          <p:nvPr/>
        </p:nvSpPr>
        <p:spPr>
          <a:xfrm>
            <a:off x="1332000" y="4292640"/>
            <a:ext cx="72723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«О внесении изменений в отдельные законодательные акты Российской Федерации в связи 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совершенствованием правового положения государственных (муниципальных) учреждений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Позиции, которые не меняются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у действующих бюджетных учреждений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при переходе к новому статусу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838836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3780000" y="3213000"/>
            <a:ext cx="2447640" cy="1079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ри переходе к новом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атусу остаетс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еизменны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3348000" y="1628640"/>
            <a:ext cx="3095640" cy="136872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Недвижимым имуществ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реждение не може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споряжаться без соглас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бственник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6443640" y="1700280"/>
            <a:ext cx="2700360" cy="201600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. Лицензи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идетельства об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ккредитации, ины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зрешительны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кументы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данные учреждению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должаю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ействова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4"/>
          <p:cNvSpPr/>
          <p:nvPr/>
        </p:nvSpPr>
        <p:spPr>
          <a:xfrm>
            <a:off x="250920" y="4508640"/>
            <a:ext cx="2952720" cy="208908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3. Система управления: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не требуется переназначение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руководителя и иных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работников учреждения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(в т.ч. военнослужащих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и приравненных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к ним лиц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611280" y="1628640"/>
            <a:ext cx="2665440" cy="136872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Счета учрежден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-прежнем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крываютс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Казначейств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финансовом органе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611280" y="3213000"/>
            <a:ext cx="2592360" cy="115092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 На все закупк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спространяетс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ейств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кона № 94-ФЗ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3276720" y="5589720"/>
            <a:ext cx="5040360" cy="1268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В целом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рганизационные мероприятия сведен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к минимуму – необходимо будет тольк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нести изменения в устав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Кроме того, с 1 января 2011 года до 1 июля 2012 го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станавливается переходный перио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29"/>
          <p:cNvSpPr/>
          <p:nvPr/>
        </p:nvSpPr>
        <p:spPr>
          <a:xfrm flipV="1">
            <a:off x="5003640" y="299700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30"/>
          <p:cNvSpPr/>
          <p:nvPr/>
        </p:nvSpPr>
        <p:spPr>
          <a:xfrm flipH="1">
            <a:off x="3203280" y="371628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35"/>
          <p:cNvSpPr/>
          <p:nvPr/>
        </p:nvSpPr>
        <p:spPr>
          <a:xfrm flipH="1" flipV="1">
            <a:off x="3132000" y="2708280"/>
            <a:ext cx="648000" cy="50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36"/>
          <p:cNvSpPr/>
          <p:nvPr/>
        </p:nvSpPr>
        <p:spPr>
          <a:xfrm>
            <a:off x="5148360" y="4292640"/>
            <a:ext cx="431640" cy="1297080"/>
          </a:xfrm>
          <a:prstGeom prst="downArrow">
            <a:avLst>
              <a:gd name="adj1" fmla="val 50000"/>
              <a:gd name="adj2" fmla="val 7512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37"/>
          <p:cNvSpPr/>
          <p:nvPr/>
        </p:nvSpPr>
        <p:spPr>
          <a:xfrm>
            <a:off x="4284720" y="4292640"/>
            <a:ext cx="431640" cy="1297080"/>
          </a:xfrm>
          <a:prstGeom prst="downArrow">
            <a:avLst>
              <a:gd name="adj1" fmla="val 50000"/>
              <a:gd name="adj2" fmla="val 7512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6443640" y="4076640"/>
            <a:ext cx="2700360" cy="129708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. Имуществ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режд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храняется у ни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полном объеме без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резакреп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5"/>
          <p:cNvSpPr/>
          <p:nvPr/>
        </p:nvSpPr>
        <p:spPr>
          <a:xfrm flipH="1">
            <a:off x="2987280" y="4292640"/>
            <a:ext cx="792360" cy="64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26"/>
          <p:cNvSpPr/>
          <p:nvPr/>
        </p:nvSpPr>
        <p:spPr>
          <a:xfrm flipV="1">
            <a:off x="6227640" y="3068280"/>
            <a:ext cx="28908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8"/>
          <p:cNvSpPr/>
          <p:nvPr/>
        </p:nvSpPr>
        <p:spPr>
          <a:xfrm>
            <a:off x="6227640" y="4292640"/>
            <a:ext cx="28908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Основные изменения в статусе бюджетных учреждений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" name="Oval 4"/>
          <p:cNvSpPr/>
          <p:nvPr/>
        </p:nvSpPr>
        <p:spPr>
          <a:xfrm>
            <a:off x="838836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3635280" y="3284640"/>
            <a:ext cx="2305080" cy="1079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асширение объем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рав и повышен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амостоятель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юджетных учрежд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11280" y="4292640"/>
            <a:ext cx="3025800" cy="122400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Отмена субсидиарно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ветственности государств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обязательствам бюджетног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режд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6156360" y="3789360"/>
            <a:ext cx="2843280" cy="136836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. Расширение прав п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споряжению движимы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мущество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за исключение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обо ценного движимог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мущества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3419640" y="1125360"/>
            <a:ext cx="3384360" cy="187200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 Полученные доход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 являются доходам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юджета и остаютс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распоряжении учреждения 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лжны направляться н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стижение целей ради которы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реждение создан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324000" y="1844640"/>
            <a:ext cx="3240000" cy="165564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Изменение механизмо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инансового обеспечения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реход с бюджетно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меты на субсидии п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осзадани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43"/>
          <p:cNvSpPr/>
          <p:nvPr/>
        </p:nvSpPr>
        <p:spPr>
          <a:xfrm flipH="1" flipV="1">
            <a:off x="3348000" y="3068640"/>
            <a:ext cx="28728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44"/>
          <p:cNvSpPr/>
          <p:nvPr/>
        </p:nvSpPr>
        <p:spPr>
          <a:xfrm flipH="1">
            <a:off x="3492000" y="4365720"/>
            <a:ext cx="142920" cy="142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6516720" y="2276640"/>
            <a:ext cx="2413080" cy="122364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. Расширен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амостоятельност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использованию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редств, полученны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з бюдже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5"/>
          <p:cNvSpPr/>
          <p:nvPr/>
        </p:nvSpPr>
        <p:spPr>
          <a:xfrm flipV="1">
            <a:off x="5003640" y="299736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3635280" y="5373720"/>
            <a:ext cx="4032360" cy="86508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. Заключение гражданско-правовы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говоров, приобретение прав 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язанностей от своего имен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7"/>
          <p:cNvSpPr/>
          <p:nvPr/>
        </p:nvSpPr>
        <p:spPr>
          <a:xfrm>
            <a:off x="5003640" y="4365720"/>
            <a:ext cx="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5940360" y="2997360"/>
            <a:ext cx="57636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940360" y="4365720"/>
            <a:ext cx="216000" cy="142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55280" y="286920"/>
            <a:ext cx="79311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зменение механизма финансового обеспечения бюджетных учреждений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Oval 13"/>
          <p:cNvSpPr/>
          <p:nvPr/>
        </p:nvSpPr>
        <p:spPr>
          <a:xfrm>
            <a:off x="8424720" y="656892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826920" y="1628640"/>
            <a:ext cx="4608720" cy="57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ереход от сметного финансирова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 предоставлению субсид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4"/>
          <p:cNvSpPr/>
          <p:nvPr/>
        </p:nvSpPr>
        <p:spPr>
          <a:xfrm>
            <a:off x="785880" y="3357720"/>
            <a:ext cx="4429080" cy="79200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йти к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истеме субсидий на госзад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ля бюджетных учреждений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ключающей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2"/>
          <p:cNvSpPr/>
          <p:nvPr/>
        </p:nvSpPr>
        <p:spPr>
          <a:xfrm>
            <a:off x="1763640" y="4371840"/>
            <a:ext cx="3600360" cy="7905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убсидию на оказание услуг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выполнение работ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соответствии с госзадание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ст. 78.1 БК РФ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0"/>
          <p:cNvSpPr/>
          <p:nvPr/>
        </p:nvSpPr>
        <p:spPr>
          <a:xfrm>
            <a:off x="1332000" y="4587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1"/>
          <p:cNvSpPr/>
          <p:nvPr/>
        </p:nvSpPr>
        <p:spPr>
          <a:xfrm>
            <a:off x="1476360" y="4730760"/>
            <a:ext cx="287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2"/>
          <p:cNvSpPr/>
          <p:nvPr/>
        </p:nvSpPr>
        <p:spPr>
          <a:xfrm>
            <a:off x="1785960" y="5235480"/>
            <a:ext cx="3600360" cy="569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убсидии на иные цел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ст. 78.1 БК РФ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4"/>
          <p:cNvSpPr/>
          <p:nvPr/>
        </p:nvSpPr>
        <p:spPr>
          <a:xfrm>
            <a:off x="5364000" y="3435480"/>
            <a:ext cx="3780000" cy="122868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воначальные н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орматив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затрат индивидуализированы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убсидия рассчитывается исходя из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актически сложившихся расход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реждения (п.8 ст.31 83-ФЗ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5508720" y="4873680"/>
            <a:ext cx="3635280" cy="91260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атем будет происходить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и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постепенная унификация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по группа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днопрофильных учрежден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 учетом различных факторов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8"/>
          <p:cNvSpPr/>
          <p:nvPr/>
        </p:nvSpPr>
        <p:spPr>
          <a:xfrm>
            <a:off x="7164360" y="46576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2268360" y="2276640"/>
            <a:ext cx="1440000" cy="1008000"/>
          </a:xfrm>
          <a:prstGeom prst="downArrow">
            <a:avLst>
              <a:gd name="adj1" fmla="val 49944"/>
              <a:gd name="adj2" fmla="val 5814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20"/>
          <p:cNvSpPr/>
          <p:nvPr/>
        </p:nvSpPr>
        <p:spPr>
          <a:xfrm>
            <a:off x="5214960" y="378612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7"/>
          <p:cNvSpPr/>
          <p:nvPr/>
        </p:nvSpPr>
        <p:spPr>
          <a:xfrm>
            <a:off x="1214280" y="4299120"/>
            <a:ext cx="79560" cy="792000"/>
          </a:xfrm>
          <a:custGeom>
            <a:avLst/>
            <a:gdLst>
              <a:gd name="textAreaLeft" fmla="*/ 23400 w 79560"/>
              <a:gd name="textAreaRight" fmla="*/ 79920 w 79560"/>
              <a:gd name="textAreaTop" fmla="*/ 69840 h 792000"/>
              <a:gd name="textAreaBottom" fmla="*/ 72216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06"/>
                  <a:pt x="0" y="3812"/>
                </a:cubicBezTo>
                <a:lnTo>
                  <a:pt x="0" y="17788"/>
                </a:lnTo>
                <a:cubicBezTo>
                  <a:pt x="0" y="1969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9"/>
          <p:cNvSpPr/>
          <p:nvPr/>
        </p:nvSpPr>
        <p:spPr>
          <a:xfrm>
            <a:off x="0" y="4443480"/>
            <a:ext cx="135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Обязательна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субсид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-36360" y="5661000"/>
            <a:ext cx="135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Могут  предо-ставлятьс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1187280" y="5229360"/>
            <a:ext cx="70200" cy="1295280"/>
          </a:xfrm>
          <a:custGeom>
            <a:avLst/>
            <a:gdLst>
              <a:gd name="textAreaLeft" fmla="*/ 20520 w 70200"/>
              <a:gd name="textAreaRight" fmla="*/ 70560 w 70200"/>
              <a:gd name="textAreaTop" fmla="*/ 114120 h 1295280"/>
              <a:gd name="textAreaBottom" fmla="*/ 118116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06"/>
                  <a:pt x="0" y="3812"/>
                </a:cubicBezTo>
                <a:lnTo>
                  <a:pt x="0" y="17788"/>
                </a:lnTo>
                <a:cubicBezTo>
                  <a:pt x="0" y="1969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76360" y="4156200"/>
            <a:ext cx="0" cy="215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1"/>
          <p:cNvSpPr/>
          <p:nvPr/>
        </p:nvSpPr>
        <p:spPr>
          <a:xfrm>
            <a:off x="1476360" y="6308640"/>
            <a:ext cx="287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1"/>
          <p:cNvSpPr/>
          <p:nvPr/>
        </p:nvSpPr>
        <p:spPr>
          <a:xfrm>
            <a:off x="1476360" y="5516640"/>
            <a:ext cx="287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1763640" y="5950080"/>
            <a:ext cx="360036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юджетные инвести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ст. 79 БК РФ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93116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прощение операций по лицевым счетам бюджетных учреждений, открытым в Казначействе (финансовом органе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AutoShape 4"/>
          <p:cNvSpPr/>
          <p:nvPr/>
        </p:nvSpPr>
        <p:spPr>
          <a:xfrm>
            <a:off x="6143760" y="2500200"/>
            <a:ext cx="1584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13"/>
          <p:cNvSpPr/>
          <p:nvPr/>
        </p:nvSpPr>
        <p:spPr>
          <a:xfrm>
            <a:off x="838836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857160" y="1643040"/>
            <a:ext cx="7572600" cy="8571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перации со средствами бюджетных учреждений, полученными в вид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убсидий на лицевых счетах, открыты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 органах Федерального казначейства, осуществляются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642960" y="2857680"/>
            <a:ext cx="4214880" cy="9284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о субсидиям на оказание государственны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муниципальных) услуг (выполнение работ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0"/>
          <p:cNvSpPr/>
          <p:nvPr/>
        </p:nvSpPr>
        <p:spPr>
          <a:xfrm>
            <a:off x="853920" y="5573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2000160" y="2500200"/>
            <a:ext cx="1584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5143680" y="2857680"/>
            <a:ext cx="3786120" cy="9284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о иным целевым субсидия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2"/>
          <p:cNvSpPr/>
          <p:nvPr/>
        </p:nvSpPr>
        <p:spPr>
          <a:xfrm>
            <a:off x="1187280" y="3860640"/>
            <a:ext cx="3741840" cy="792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ез предоставления в Казначейств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финансовый орган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окументов, подтверждающи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озникновение денежных обязательст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2"/>
          <p:cNvSpPr/>
          <p:nvPr/>
        </p:nvSpPr>
        <p:spPr>
          <a:xfrm>
            <a:off x="1214280" y="4786200"/>
            <a:ext cx="3714840" cy="8575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статки неиспользованных на начал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финансового года средств используютс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 те же цели в следующем финансов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году (п. 17 ст. 30 83-ФЗ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0"/>
          <p:cNvSpPr/>
          <p:nvPr/>
        </p:nvSpPr>
        <p:spPr>
          <a:xfrm>
            <a:off x="782640" y="43592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785880" y="428616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785880" y="521496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0"/>
          <p:cNvSpPr/>
          <p:nvPr/>
        </p:nvSpPr>
        <p:spPr>
          <a:xfrm>
            <a:off x="5068800" y="56451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12"/>
          <p:cNvSpPr/>
          <p:nvPr/>
        </p:nvSpPr>
        <p:spPr>
          <a:xfrm>
            <a:off x="5857920" y="3860640"/>
            <a:ext cx="2857320" cy="936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 представлением в Казначейств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финансовый орган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окументов, подтверждающи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озникнов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енежных обязательст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5857920" y="4929120"/>
            <a:ext cx="3106800" cy="1452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статки неиспользованных н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чало финансового года средств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спользуются на те же цел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и наличии потребности в ни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соответствии с решением учредител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п. 18 ст. 30 83-ФЗ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0"/>
          <p:cNvSpPr/>
          <p:nvPr/>
        </p:nvSpPr>
        <p:spPr>
          <a:xfrm>
            <a:off x="4925880" y="4430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1"/>
          <p:cNvSpPr/>
          <p:nvPr/>
        </p:nvSpPr>
        <p:spPr>
          <a:xfrm>
            <a:off x="5429160" y="442908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5429160" y="558972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Прямая соединительная линия 55"/>
          <p:cNvSpPr/>
          <p:nvPr/>
        </p:nvSpPr>
        <p:spPr>
          <a:xfrm flipH="1">
            <a:off x="783720" y="3787920"/>
            <a:ext cx="1800" cy="1428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Прямая соединительная линия 56"/>
          <p:cNvSpPr/>
          <p:nvPr/>
        </p:nvSpPr>
        <p:spPr>
          <a:xfrm flipH="1">
            <a:off x="5430600" y="3786120"/>
            <a:ext cx="4680" cy="180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93116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тмена субсидиарной ответственности государства по обязательствам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юджетных учреждений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6408720" y="2349360"/>
            <a:ext cx="1584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13"/>
          <p:cNvSpPr/>
          <p:nvPr/>
        </p:nvSpPr>
        <p:spPr>
          <a:xfrm>
            <a:off x="8244000" y="6453360"/>
            <a:ext cx="718920" cy="28872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12"/>
          <p:cNvSpPr/>
          <p:nvPr/>
        </p:nvSpPr>
        <p:spPr>
          <a:xfrm>
            <a:off x="857160" y="1643040"/>
            <a:ext cx="7572600" cy="7063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 1 января 2011 года государство не несет ответственности по обязательства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юджетных учрежд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5429160" y="2708280"/>
            <a:ext cx="3714840" cy="223344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Если правоотношение с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астием бюджетного учрежден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озникло до 1 января 2011 года, т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осударство продолжает нест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убсидиарную ответственность п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сем обязательствам, вытекающи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з такого правоотношен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п. 9 ст. 31 83-ФЗ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550800" y="2706840"/>
            <a:ext cx="4429080" cy="245088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Бюджетное учреждение (БУ) отвечает по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своим обязательствам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своим имуществом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(за исключением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всего недвижимого имущества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и особо ценного движимого имущества,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закрепленного за БУ собственником или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приобретенным БУ за счет средств, выделенных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ему собственником на эти цели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(ст. 120 ГК РФ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905040" y="5208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1979640" y="2349360"/>
            <a:ext cx="1584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AutoShape 5"/>
          <p:cNvSpPr/>
          <p:nvPr/>
        </p:nvSpPr>
        <p:spPr>
          <a:xfrm>
            <a:off x="2195640" y="1628640"/>
            <a:ext cx="4968720" cy="72072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мущество, находящееся на праве оперативног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правления у бюджетного учреждения (БУ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2"/>
          <p:cNvSpPr/>
          <p:nvPr/>
        </p:nvSpPr>
        <p:spPr>
          <a:xfrm>
            <a:off x="1187280" y="2708280"/>
            <a:ext cx="3745080" cy="504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Движимое имущест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2"/>
          <p:cNvSpPr/>
          <p:nvPr/>
        </p:nvSpPr>
        <p:spPr>
          <a:xfrm>
            <a:off x="684360" y="3500280"/>
            <a:ext cx="2519280" cy="1297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крепленное собственником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 БУ или приобретенное Б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 счет средств, выделенны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обственником на приобрет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такого имуществ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6"/>
          <p:cNvSpPr/>
          <p:nvPr/>
        </p:nvSpPr>
        <p:spPr>
          <a:xfrm>
            <a:off x="755640" y="3502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5724360" y="2708280"/>
            <a:ext cx="3313440" cy="504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едвижимое имущест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7"/>
          <p:cNvSpPr/>
          <p:nvPr/>
        </p:nvSpPr>
        <p:spPr>
          <a:xfrm>
            <a:off x="5292720" y="35751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33"/>
          <p:cNvSpPr/>
          <p:nvPr/>
        </p:nvSpPr>
        <p:spPr>
          <a:xfrm flipH="1">
            <a:off x="3058920" y="2349360"/>
            <a:ext cx="431640" cy="35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34"/>
          <p:cNvSpPr/>
          <p:nvPr/>
        </p:nvSpPr>
        <p:spPr>
          <a:xfrm>
            <a:off x="5796000" y="2349360"/>
            <a:ext cx="576360" cy="35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611280" y="0"/>
            <a:ext cx="853272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Расширение объема прав по использованию и распоряжению движимым имуществом у бюджетных учрежд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3276720" y="3500280"/>
            <a:ext cx="2232000" cy="1297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иобретенное БУ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 счет средств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оторыми  Б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аспоряжаетс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амостоятельн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8"/>
          <p:cNvSpPr/>
          <p:nvPr/>
        </p:nvSpPr>
        <p:spPr>
          <a:xfrm flipH="1">
            <a:off x="2411280" y="3213000"/>
            <a:ext cx="72072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9"/>
          <p:cNvSpPr/>
          <p:nvPr/>
        </p:nvSpPr>
        <p:spPr>
          <a:xfrm>
            <a:off x="3132000" y="3213000"/>
            <a:ext cx="79236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AutoShape 5"/>
          <p:cNvSpPr/>
          <p:nvPr/>
        </p:nvSpPr>
        <p:spPr>
          <a:xfrm>
            <a:off x="3348000" y="5734080"/>
            <a:ext cx="1943280" cy="79200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Распоряжаетс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амостоятельн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2"/>
          <p:cNvSpPr/>
          <p:nvPr/>
        </p:nvSpPr>
        <p:spPr>
          <a:xfrm>
            <a:off x="250920" y="5084640"/>
            <a:ext cx="1800000" cy="505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собо ценно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вижимое имуществ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2"/>
          <p:cNvSpPr/>
          <p:nvPr/>
        </p:nvSpPr>
        <p:spPr>
          <a:xfrm>
            <a:off x="2195640" y="5084640"/>
            <a:ext cx="1657080" cy="505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ное движимо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муществ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34"/>
          <p:cNvSpPr/>
          <p:nvPr/>
        </p:nvSpPr>
        <p:spPr>
          <a:xfrm flipH="1">
            <a:off x="1331640" y="4797360"/>
            <a:ext cx="64764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35"/>
          <p:cNvSpPr/>
          <p:nvPr/>
        </p:nvSpPr>
        <p:spPr>
          <a:xfrm>
            <a:off x="1979640" y="4797360"/>
            <a:ext cx="79200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5"/>
          <p:cNvSpPr/>
          <p:nvPr/>
        </p:nvSpPr>
        <p:spPr>
          <a:xfrm>
            <a:off x="250920" y="5877000"/>
            <a:ext cx="1942920" cy="79200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Распоряжаетс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только с согласи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обственн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6084720" y="3645000"/>
            <a:ext cx="2664000" cy="115236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споряжается тольк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 согласия собственн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вне зависимости от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сточн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обретения недвижимог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мущества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8"/>
          <p:cNvSpPr/>
          <p:nvPr/>
        </p:nvSpPr>
        <p:spPr>
          <a:xfrm>
            <a:off x="7308720" y="321300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9"/>
          <p:cNvSpPr/>
          <p:nvPr/>
        </p:nvSpPr>
        <p:spPr>
          <a:xfrm>
            <a:off x="5940360" y="5157720"/>
            <a:ext cx="2987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Самостоятельное распоряжение движимым имуществом становится возможным только с момента утверждения перечня особо ценного движимого  имущества.  (п.5 ст. 31) До этого момента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во всех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 случаях требуется согласие учредителя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40"/>
          <p:cNvSpPr/>
          <p:nvPr/>
        </p:nvSpPr>
        <p:spPr>
          <a:xfrm>
            <a:off x="5292720" y="609300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AutoShape 7"/>
          <p:cNvSpPr/>
          <p:nvPr/>
        </p:nvSpPr>
        <p:spPr>
          <a:xfrm>
            <a:off x="5940360" y="5229360"/>
            <a:ext cx="71640" cy="1512720"/>
          </a:xfrm>
          <a:custGeom>
            <a:avLst/>
            <a:gdLst>
              <a:gd name="textAreaLeft" fmla="*/ 20880 w 71640"/>
              <a:gd name="textAreaRight" fmla="*/ 72000 w 71640"/>
              <a:gd name="textAreaTop" fmla="*/ 63000 h 1512720"/>
              <a:gd name="textAreaBottom" fmla="*/ 14497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42"/>
          <p:cNvSpPr/>
          <p:nvPr/>
        </p:nvSpPr>
        <p:spPr>
          <a:xfrm>
            <a:off x="4356000" y="4797360"/>
            <a:ext cx="0" cy="936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43"/>
          <p:cNvSpPr/>
          <p:nvPr/>
        </p:nvSpPr>
        <p:spPr>
          <a:xfrm>
            <a:off x="2771640" y="558972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44"/>
          <p:cNvSpPr/>
          <p:nvPr/>
        </p:nvSpPr>
        <p:spPr>
          <a:xfrm>
            <a:off x="2771640" y="609300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45"/>
          <p:cNvSpPr/>
          <p:nvPr/>
        </p:nvSpPr>
        <p:spPr>
          <a:xfrm>
            <a:off x="1258920" y="55897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46"/>
          <p:cNvSpPr/>
          <p:nvPr/>
        </p:nvSpPr>
        <p:spPr>
          <a:xfrm>
            <a:off x="5724360" y="5013360"/>
            <a:ext cx="33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Oval 13"/>
          <p:cNvSpPr/>
          <p:nvPr/>
        </p:nvSpPr>
        <p:spPr>
          <a:xfrm>
            <a:off x="838980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2"/>
          <p:cNvSpPr/>
          <p:nvPr/>
        </p:nvSpPr>
        <p:spPr>
          <a:xfrm>
            <a:off x="2268360" y="6237360"/>
            <a:ext cx="1008360" cy="4334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т. 9.2 7-Ф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т. 298 ГК Р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826920" y="270828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вод части бюджетных учреждений в казенные учреждения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Автоматический перевод в силу закона ряда федеральных бюджетных учреждений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в казенные учреждения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Oval 4"/>
          <p:cNvSpPr/>
          <p:nvPr/>
        </p:nvSpPr>
        <p:spPr>
          <a:xfrm>
            <a:off x="8317080" y="6453360"/>
            <a:ext cx="718920" cy="28872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12"/>
          <p:cNvSpPr/>
          <p:nvPr/>
        </p:nvSpPr>
        <p:spPr>
          <a:xfrm>
            <a:off x="714240" y="1628640"/>
            <a:ext cx="8178840" cy="8067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едлагается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 1 января 2011 г. создать казенны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учреждения, изменив тип федеральных бюджетных учреждений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непосредственно определенных в Законе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 том числе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826920" y="2421000"/>
            <a:ext cx="0" cy="388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15"/>
          <p:cNvSpPr/>
          <p:nvPr/>
        </p:nvSpPr>
        <p:spPr>
          <a:xfrm>
            <a:off x="826920" y="292428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2"/>
          <p:cNvSpPr/>
          <p:nvPr/>
        </p:nvSpPr>
        <p:spPr>
          <a:xfrm>
            <a:off x="1042920" y="2492280"/>
            <a:ext cx="4969080" cy="8654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управления объединений, управления соединений и воинские части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Вооруженных Сил Российской Федерации, военные комиссариаты,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органы управления внутренними войсками, органы управления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войсками гражданской обороны, соединения и воинские части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внутренних войск, а также других войск и воинских формирований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2"/>
          <p:cNvSpPr/>
          <p:nvPr/>
        </p:nvSpPr>
        <p:spPr>
          <a:xfrm>
            <a:off x="1042920" y="3429000"/>
            <a:ext cx="4969080" cy="792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учреждения, исполняющие наказания, следственные изоляторы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уголовно-исполнительной системы, учреждения, специально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созданные для обеспечения деятельности уголовно-исполнительной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системы, выполняющие специальные функции и функции управления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2"/>
          <p:cNvSpPr/>
          <p:nvPr/>
        </p:nvSpPr>
        <p:spPr>
          <a:xfrm>
            <a:off x="1042920" y="4365720"/>
            <a:ext cx="4753080" cy="503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специализированные учреждения для несовершеннолетних,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нуждающихся в социальной реабилитац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29"/>
          <p:cNvSpPr/>
          <p:nvPr/>
        </p:nvSpPr>
        <p:spPr>
          <a:xfrm>
            <a:off x="826920" y="350028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30"/>
          <p:cNvSpPr/>
          <p:nvPr/>
        </p:nvSpPr>
        <p:spPr>
          <a:xfrm>
            <a:off x="826920" y="450864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2"/>
          <p:cNvSpPr/>
          <p:nvPr/>
        </p:nvSpPr>
        <p:spPr>
          <a:xfrm>
            <a:off x="5940360" y="3429000"/>
            <a:ext cx="3203640" cy="2448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 сути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татус казенных учрежде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будет идентичен существующему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крепленному в действующем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конодательстве Российской Федераци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авовому статусу бюджетног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учреждения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 дополнительны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ограничением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в виде зачис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сех полученных учреждением средст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т приносящей доходы деятельност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соответствующий бюджет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AutoShape 36"/>
          <p:cNvSpPr/>
          <p:nvPr/>
        </p:nvSpPr>
        <p:spPr>
          <a:xfrm>
            <a:off x="6659640" y="2421000"/>
            <a:ext cx="431640" cy="1008000"/>
          </a:xfrm>
          <a:prstGeom prst="downArrow">
            <a:avLst>
              <a:gd name="adj1" fmla="val 50000"/>
              <a:gd name="adj2" fmla="val 58382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1116000" y="6021360"/>
            <a:ext cx="4608360" cy="719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сихиатрические больницы (стационары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пециализированного тип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 интенсивным наблюдением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лепрозории и противочумные учрежд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24"/>
          <p:cNvSpPr/>
          <p:nvPr/>
        </p:nvSpPr>
        <p:spPr>
          <a:xfrm>
            <a:off x="826920" y="537372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2"/>
          <p:cNvSpPr/>
          <p:nvPr/>
        </p:nvSpPr>
        <p:spPr>
          <a:xfrm>
            <a:off x="1042920" y="5013360"/>
            <a:ext cx="4681440" cy="936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учреждения МВД, ГУСПа, ФМС, ФТС, ФСБ, СВР, ФСО,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пециальные, воинские, территориальные, объектовые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дразделения федеральной противопожарной службы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ЧС,  аварийно-спасательные формирования федеральных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рганов исполнительной власти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24"/>
          <p:cNvSpPr/>
          <p:nvPr/>
        </p:nvSpPr>
        <p:spPr>
          <a:xfrm>
            <a:off x="826920" y="630864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2"/>
          <p:cNvSpPr/>
          <p:nvPr/>
        </p:nvSpPr>
        <p:spPr>
          <a:xfrm>
            <a:off x="6516720" y="6165720"/>
            <a:ext cx="1440000" cy="3589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т. 31 83-Ф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Минимизация организационных мероприятий при создании казенных учреждений в силу закона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9" name="Oval 4"/>
          <p:cNvSpPr/>
          <p:nvPr/>
        </p:nvSpPr>
        <p:spPr>
          <a:xfrm>
            <a:off x="8317080" y="6453360"/>
            <a:ext cx="718920" cy="28872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1928880" y="1643040"/>
            <a:ext cx="5357880" cy="6462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и создании казенных учрежден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 силу закон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2862360" y="2506680"/>
            <a:ext cx="4209840" cy="7794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не производится переназначение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уководителя и иных работников учрежд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2857680" y="3429000"/>
            <a:ext cx="4214520" cy="9288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имущество не перезакрепляетс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то ест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знается закрепленным на прав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еративного управлен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з принятия дополнительного решения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2"/>
          <p:cNvSpPr/>
          <p:nvPr/>
        </p:nvSpPr>
        <p:spPr>
          <a:xfrm>
            <a:off x="2857680" y="4500720"/>
            <a:ext cx="4214520" cy="9284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Лицензии, свидетельства об аккредитаци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иные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азрешительные документ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выданны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учреждению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одолжают действоват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2857680" y="5572080"/>
            <a:ext cx="421452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е производится перерегистрация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тольк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носятся изменения в уста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39"/>
          <p:cNvSpPr/>
          <p:nvPr/>
        </p:nvSpPr>
        <p:spPr>
          <a:xfrm>
            <a:off x="2571840" y="2928960"/>
            <a:ext cx="28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40"/>
          <p:cNvSpPr/>
          <p:nvPr/>
        </p:nvSpPr>
        <p:spPr>
          <a:xfrm>
            <a:off x="2571840" y="3929040"/>
            <a:ext cx="28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41"/>
          <p:cNvSpPr/>
          <p:nvPr/>
        </p:nvSpPr>
        <p:spPr>
          <a:xfrm>
            <a:off x="2571840" y="5000760"/>
            <a:ext cx="28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42"/>
          <p:cNvSpPr/>
          <p:nvPr/>
        </p:nvSpPr>
        <p:spPr>
          <a:xfrm>
            <a:off x="2571840" y="5857920"/>
            <a:ext cx="28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Прямая соединительная линия 34"/>
          <p:cNvSpPr/>
          <p:nvPr/>
        </p:nvSpPr>
        <p:spPr>
          <a:xfrm flipH="1">
            <a:off x="2569680" y="2286000"/>
            <a:ext cx="1800" cy="357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2"/>
          <p:cNvSpPr/>
          <p:nvPr/>
        </p:nvSpPr>
        <p:spPr>
          <a:xfrm>
            <a:off x="6659640" y="6381720"/>
            <a:ext cx="1439640" cy="3589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т. 31 83-Ф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826920" y="270828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юджетные, автономные и казенные учреждения: сравнительная характеристика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Заголовок 1"/>
          <p:cNvSpPr/>
          <p:nvPr/>
        </p:nvSpPr>
        <p:spPr>
          <a:xfrm>
            <a:off x="179280" y="549360"/>
            <a:ext cx="8656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ания разработ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36284" t="0" r="8315" b="0"/>
          <a:stretch/>
        </p:blipFill>
        <p:spPr>
          <a:xfrm>
            <a:off x="539640" y="1268280"/>
            <a:ext cx="2151000" cy="25923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109" name=""/>
          <p:cNvSpPr/>
          <p:nvPr/>
        </p:nvSpPr>
        <p:spPr>
          <a:xfrm rot="10800000">
            <a:off x="2484000" y="1051920"/>
            <a:ext cx="6335640" cy="5616360"/>
          </a:xfrm>
          <a:prstGeom prst="verticalScroll">
            <a:avLst>
              <a:gd name="adj" fmla="val 12518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1125360"/>
            <a:ext cx="46083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В Бюджетном послании 25 мая 2009 г. Президентом Российской Федерации Федеральному Собранию была поставлена задача совершенствования правового положения государственных (муниципальных) учреждений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Разработка была также предусмотрен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Концепцией развития гражданского законодательства Российской Федерации, одобренной решением Совета при Президенте РФ по кодификации и совершенствованию гражданского законодательства от 07.10.2009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ланом мероприятий по совершенствованию государственного управления в 2009 - 2010 годах, утвержденным распоряжением Правительства РФ от 03.12.2009 № 1862-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78364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33"/>
                </a:solidFill>
                <a:latin typeface="Times New Roman"/>
              </a:rPr>
              <a:t>Бюджетное учреждение (с расширенным объемом прав), автономное учреждение и казенное учреждение: </a:t>
            </a:r>
            <a:br>
              <a:rPr sz="2200"/>
            </a:br>
            <a:r>
              <a:rPr b="1" i="1" lang="en-US" sz="2200" spc="-1" strike="noStrike">
                <a:solidFill>
                  <a:srgbClr val="330033"/>
                </a:solidFill>
                <a:latin typeface="Times New Roman"/>
              </a:rPr>
              <a:t>предложения по распоряжению имуществом и ответственности</a:t>
            </a:r>
            <a:endParaRPr b="0" lang="en-US" sz="2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3" name="Oval 4"/>
          <p:cNvSpPr/>
          <p:nvPr/>
        </p:nvSpPr>
        <p:spPr>
          <a:xfrm>
            <a:off x="8424720" y="656892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611280" y="1484280"/>
          <a:ext cx="8064360" cy="5000760"/>
        </p:xfrm>
        <a:graphic>
          <a:graphicData uri="http://schemas.openxmlformats.org/drawingml/2006/table">
            <a:tbl>
              <a:tblPr/>
              <a:tblGrid>
                <a:gridCol w="1728720"/>
                <a:gridCol w="2448000"/>
                <a:gridCol w="2232000"/>
                <a:gridCol w="165564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терии срав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ое учрежд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 расширенным объемом пра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номное учреж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зенное учреж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арная ответст-венность государ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лагается отмени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ветственность учреждения по своим обязательства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м имуществом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оме: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особо ценного движимого имущества, закрепленного собственником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</a:t>
                      </a: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любого недвижимого имуще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м имуществом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оме: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особо ценного движимого имущества, закрепленного собственником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</a:t>
                      </a: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недвижимого имущества, закрепленного собственнико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пределах доведенных ЛБ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поряжение имуществ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м имуществом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ом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особо ценного движимого имущества, закрепленного собственником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</a:t>
                      </a: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любого недвижимого имуще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м имуществом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ом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особо ценного движимого имущества, закрепленного собственником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</a:t>
                      </a: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недвижимого имущества, закрепленного собственнико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вправе распоряжаться любым имуществ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о на совершение крупных сдел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С предварительного соглас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С предварительного согласия наблюдательного 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сутству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обо ценное движимое имущ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Виды могут определять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фильные министерств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Перечни определяет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орган, выполняющих функции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Виды могут определять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фильные министерств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Перечни определяет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орган, выполняющих функции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выделяе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imes New Roman"/>
              </a:rPr>
              <a:t>Бюджетное учреждение (с расширенным объемом прав), автономное учреждение и казенное учреждение:</a:t>
            </a:r>
            <a:br>
              <a:rPr sz="1800"/>
            </a:br>
            <a:r>
              <a:rPr b="1" i="1" lang="en-US" sz="1600" spc="-1" strike="noStrike">
                <a:solidFill>
                  <a:srgbClr val="330033"/>
                </a:solidFill>
                <a:latin typeface="Times New Roman"/>
              </a:rPr>
              <a:t>органы управления, создание, реорганизация и ликвидация, учреждение иных организаций</a:t>
            </a:r>
            <a:r>
              <a:rPr b="1" lang="en-US" sz="2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790560" y="907920"/>
          <a:ext cx="8353440" cy="5589720"/>
        </p:xfrm>
        <a:graphic>
          <a:graphicData uri="http://schemas.openxmlformats.org/drawingml/2006/table">
            <a:tbl>
              <a:tblPr/>
              <a:tblGrid>
                <a:gridCol w="1224000"/>
                <a:gridCol w="2449440"/>
                <a:gridCol w="2664000"/>
                <a:gridCol w="201600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терии сравн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ое учреждени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 расширенным объемом прав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номное учрежде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зенное учрежде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ы управл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Руководител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директор, ректор, главный врач и т.д.)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кже могут быть совещательные органы и органы самоуправления.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Наблюдательный сов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ководител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органы (ученый совет, художественный совет и т.д.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ководитель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кже могут быть совещательные органы и органы самоуправл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здание учре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Новы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федеральные БУ создаются 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по решению Правительства Р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В подзаконном акте предлагается установить возможность создания БУ путем изменения типа автономных или казенных учреждений, передав данные полномочия от Правительства РФ профильным министерства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Новые федеральные АУ создаются по решению Правительства РФ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В подзаконном акте предлагается упростить создание АУ путем изменения типа БУ, передав данные полномочия от Правительства РФ профильным министерств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Новые федеральные КУ создаются по решению Правительства РФ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Массовый перевод части БУ в КУ в силу закона с 1 января 2011 го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организация и ликвидац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(банкротство запрещено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лагается упростить процедуру,  передав полномочия по федеральным БУ от Правительства РФ </a:t>
                      </a: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профильным министерствам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По решению учредител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лучаях и порядке, установленных Гражданским кодексом РФ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отношении федеральных КУ – </a:t>
                      </a: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по решению профильного министер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о внес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ущества в капитал 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хозяйственных общест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лько в случаях, прямо установленных закон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к примеру, Федеральным законом от 2 августа 2009 года № 217-ФЗ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Oval 4"/>
          <p:cNvSpPr/>
          <p:nvPr/>
        </p:nvSpPr>
        <p:spPr>
          <a:xfrm>
            <a:off x="8424720" y="656892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1</a:t>
            </a:r>
            <a:r>
              <a:rPr b="1" lang="ru-RU" sz="1800" spc="-1" strike="noStrike">
                <a:solidFill>
                  <a:srgbClr val="330033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Бюджетное учреждение (с расширенным объемом прав), автономное учреждение и казенное учреждение: </a:t>
            </a:r>
            <a:r>
              <a:rPr b="1" i="1" lang="en-US" sz="1600" spc="-1" strike="noStrike">
                <a:solidFill>
                  <a:srgbClr val="330033"/>
                </a:solidFill>
                <a:latin typeface="Times New Roman"/>
              </a:rPr>
              <a:t>финансирование, закупки, иные договоры, кредиты</a:t>
            </a:r>
            <a:r>
              <a:rPr b="1" i="1" lang="en-US" sz="2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58920" y="765000"/>
          <a:ext cx="8785080" cy="5905800"/>
        </p:xfrm>
        <a:graphic>
          <a:graphicData uri="http://schemas.openxmlformats.org/drawingml/2006/table">
            <a:tbl>
              <a:tblPr/>
              <a:tblGrid>
                <a:gridCol w="1655640"/>
                <a:gridCol w="2549520"/>
                <a:gridCol w="2403720"/>
                <a:gridCol w="2176200"/>
              </a:tblGrid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терии срав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ое учрежд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 расширенным объемом пра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номное учреж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зенное учреж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нансовое обеспече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виде субсидий в соответствии с заданием учредителя, бюджетных инвестиций и субсидий на иные цел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Доходы поступают в самостоятельное распоряже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виде субсидий в соответствии с заданием учредителя, бюджетные инвестици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Доходы поступают в самостоятельное распоряжени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основе </a:t>
                      </a: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бюджетной смет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Доходы от приносящей доход деятельности зачисляются в бюджет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кументы о планах деятельности, государственное (муниципальное) зад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ФХД (финансово-хозяйственной деятельности)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сударственное (муниципальное) зад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ФХД (финансово-хозяйственной деятельности)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сударственное (муниципальное) зад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ет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отдельных учреждений - государственное (муниципальное) зад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крытие сч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органах Казначейства  (финансовых органах) за исключением случаев, установленных Н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Вправе открывать счета в банках и в соответствии с соглашением в Казначействе (финансовом органе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органах Казначейства  (финансовых органах) за исключением случаев, установленных Н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пространение действия  94-Ф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ространяется в полном объе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Не распространяетс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пространяется в полном объе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ение контрактов и иных гражданско-правовых догово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ает от своего имен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за исключением случаев установленных НПА, когда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 приравнивается к получателю бюджетных средств и заключает госконтракты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ает от своего име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ает от имени публично-правов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влечение заем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Могут (с ограничением тна крупные сделк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Могу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огу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Oval 4"/>
          <p:cNvSpPr/>
          <p:nvPr/>
        </p:nvSpPr>
        <p:spPr>
          <a:xfrm>
            <a:off x="838980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33"/>
                </a:solidFill>
                <a:latin typeface="Times New Roman"/>
              </a:rPr>
              <a:t>Бюджетное, автономное и казенное учреждение: </a:t>
            </a:r>
            <a:br>
              <a:rPr sz="2200"/>
            </a:br>
            <a:r>
              <a:rPr b="1" lang="en-US" sz="2200" spc="-1" strike="noStrike">
                <a:solidFill>
                  <a:srgbClr val="330033"/>
                </a:solidFill>
                <a:latin typeface="Times New Roman"/>
              </a:rPr>
              <a:t>у</a:t>
            </a:r>
            <a:r>
              <a:rPr b="1" i="1" lang="en-US" sz="2200" spc="-1" strike="noStrike">
                <a:solidFill>
                  <a:srgbClr val="330033"/>
                </a:solidFill>
                <a:latin typeface="Times New Roman"/>
              </a:rPr>
              <a:t>чет, контроль, отчетность, открытость</a:t>
            </a:r>
            <a:endParaRPr b="0" lang="en-US" sz="2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324000" y="765000"/>
          <a:ext cx="8496000" cy="5477040"/>
        </p:xfrm>
        <a:graphic>
          <a:graphicData uri="http://schemas.openxmlformats.org/drawingml/2006/table">
            <a:tbl>
              <a:tblPr/>
              <a:tblGrid>
                <a:gridCol w="1109520"/>
                <a:gridCol w="3027240"/>
                <a:gridCol w="2436840"/>
                <a:gridCol w="192240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терии срав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ое учрежд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 расширенным объемом пра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номное учреж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зенное учреж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хгалтерский учет по упрощенному бюджетному плану сч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хгалтерский уч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Бюджетный уч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нансовый контроль и контроль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В основном – последующ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контроль выполнения госзад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Предварительны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санкционирование по  целевым субсидиям и бюджетным .инвестиция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Последующи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контроль выполнения госзад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Предварительный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всем расходам (проверка Казначейством наличия денежного обязательства), текущий и последующий контр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чет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хгалтерская отчетность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истическая отчетность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чет о результатах деятельности и использования имущ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хгалтерская отчетность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истическая отчетность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чет о результатах деятельности и использования имущ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бюджетная отчетност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тистическая отчетность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чет о результатах деятельности и использования имущ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крыт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дения об учреждении и его деятельности, публикуются в открытом доступе в сети Интернет на общероссийском сайте, который будет создан Федеральным казначейством и запущен с 1 января 2012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т. 32 Закона 7-ФЗ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63" name="Oval 4"/>
          <p:cNvSpPr/>
          <p:nvPr/>
        </p:nvSpPr>
        <p:spPr>
          <a:xfrm>
            <a:off x="838836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1</a:t>
            </a:r>
            <a:r>
              <a:rPr b="1" lang="ru-RU" sz="1800" spc="-1" strike="noStrike">
                <a:solidFill>
                  <a:srgbClr val="330033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250920" y="30240"/>
            <a:ext cx="870408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иложение № 6</a:t>
            </a: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Таблица сравнительного анализа налоговой нагрузки на бюджетные учреждения (с учетом нового правового статуса), автономные учреждения и казенные учреждения</a:t>
            </a:r>
            <a:r>
              <a:rPr b="0" lang="en-US" sz="1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Oval 4"/>
          <p:cNvSpPr/>
          <p:nvPr/>
        </p:nvSpPr>
        <p:spPr>
          <a:xfrm>
            <a:off x="8424720" y="656892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ahoma"/>
              </a:rPr>
              <a:t>1</a:t>
            </a:r>
            <a:r>
              <a:rPr b="1" lang="ru-RU" sz="1600" spc="-1" strike="noStrike">
                <a:solidFill>
                  <a:srgbClr val="330033"/>
                </a:solidFill>
                <a:latin typeface="Tahom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393840" y="1168560"/>
          <a:ext cx="8750160" cy="5689440"/>
        </p:xfrm>
        <a:graphic>
          <a:graphicData uri="http://schemas.openxmlformats.org/drawingml/2006/table">
            <a:tbl>
              <a:tblPr/>
              <a:tblGrid>
                <a:gridCol w="1441440"/>
                <a:gridCol w="1908000"/>
                <a:gridCol w="3059280"/>
                <a:gridCol w="2341440"/>
              </a:tblGrid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номное учрежде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ое учреждени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 расширенным объемом прав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зенное учрежде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85880">
                <a:tc>
                  <a:txBody>
                    <a:bodyPr lIns="180000" rIns="18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Д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платных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0" marR="18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18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 учетом льгот, установленных ст. 149 НК РФ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0" marR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18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 учетом льгот, установленных ст. 149 НК РФ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0" marR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18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 учетом льгот, установленных ст. 149 НК РФ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0" marR="18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180000" rIns="18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Д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аре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0" marR="18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18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0" marR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18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0" marR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18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уплачиваю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латит арендатор – налоговый аген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0" marR="18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 на прибы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убсидия в налогооблагаемую базу не включаетс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убсидия в налогооблагаемую базу не включаетс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уплачивают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алогооблагаемая база отсутствуе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споошлина за наименование «Росс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ри регистрации учредительных документ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ри регистрации учредительных документ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уплачива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рощенная система налогооблож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Применяе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вправе применя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вправе применя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 на имущество, земельный на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расходы на уплату налога на недвижимое имущество и особо ценное движимое имущество включены в сумму субсиди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расходы на уплату налога на недвижимое имущество и особо ценное движимое имущество включены в сумму субсиди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за счет доведенных им на эти цели ЛБ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826920" y="270828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ые этапы реализации предлагаемых изменений (2010-2012 гг.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ходный период (до 1.07.2012 гг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250920" y="0"/>
            <a:ext cx="889308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сновные этапы реализации предлагаемых изменений в 2010 году (федеральный уровень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179280" y="765000"/>
            <a:ext cx="8964720" cy="58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Мероприятия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ро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тверждение Правительством РФ перечней казенны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реждений, которые создаются путем измен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ипа бюджетных учреждений (БУ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 1 октября 2010 г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тверждение перечней недвижимого имущества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крепленного за подведомственными учреждения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редителем, или приобретенным за счет средств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деленных учредителем на эти цели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до 1 января 2011 г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нятие ФОИВ решений об отнесени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вижимого имущества федеральных БУ к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обо ценному движимому имуществу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 1 марта 2011 год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ставление федеральными орган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сударственной власти в Федеральное казначейст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твержденных перечней бюджетных и казенных учреждений,          -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 1 ноября 2010 г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есение изменений в уставы федеральны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юджетных и казенных учреждений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-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 1 июня 2011 год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Oval 4"/>
          <p:cNvSpPr/>
          <p:nvPr/>
        </p:nvSpPr>
        <p:spPr>
          <a:xfrm>
            <a:off x="838836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1</a:t>
            </a:r>
            <a:r>
              <a:rPr b="1" lang="ru-RU" sz="1800" spc="-1" strike="noStrike">
                <a:solidFill>
                  <a:srgbClr val="330033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611280" y="333360"/>
            <a:ext cx="79056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ые этапы реализации предлагаемых изменений (мероприятия субъектов РФ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муниципальных образовани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0" y="1397160"/>
          <a:ext cx="8893080" cy="4951080"/>
        </p:xfrm>
        <a:graphic>
          <a:graphicData uri="http://schemas.openxmlformats.org/drawingml/2006/table">
            <a:tbl>
              <a:tblPr/>
              <a:tblGrid>
                <a:gridCol w="755640"/>
                <a:gridCol w="5173560"/>
                <a:gridCol w="296388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ок реал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indent="1796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 законо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убъектов Российской Федерации, нормативных правовых актов местного самоуправления, устанавливающих особенности переходного периода в субъекте Федерации (муниципалитете)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у, начиная с которой осуществляется зачисление в бюджет субъекта Российской Федерации (местный бюджет) доходов, полученных казенными учреждениями субъекта Российской Федерации (муниципальными казенными учреждениями) от платных услуг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 финансового обеспечения бюджетных учреждений (бюджетная смета или субсидия на выполнение государственного задания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ок и направления  использования учреждениями доходов от платных услуг и иной приносящей доход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 декабря 2010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3" name="Oval 4"/>
          <p:cNvSpPr/>
          <p:nvPr/>
        </p:nvSpPr>
        <p:spPr>
          <a:xfrm>
            <a:off x="838836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1</a:t>
            </a:r>
            <a:r>
              <a:rPr b="1" lang="ru-RU" sz="1800" spc="-1" strike="noStrike">
                <a:solidFill>
                  <a:srgbClr val="330033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611280" y="333360"/>
            <a:ext cx="79056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ые этапы реализации предлагаемых изменений (мероприятия субъектов РФ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муниципальных образований)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0" y="1308240"/>
          <a:ext cx="9036000" cy="5549760"/>
        </p:xfrm>
        <a:graphic>
          <a:graphicData uri="http://schemas.openxmlformats.org/drawingml/2006/table">
            <a:tbl>
              <a:tblPr/>
              <a:tblGrid>
                <a:gridCol w="755640"/>
                <a:gridCol w="5173560"/>
                <a:gridCol w="310680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ок реал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ятие нормативных правовых актов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илу которых создаются казенные учреждени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утем изменения типа бюджетных учреждений, действовавших на дату принятия указанных нормативных правовых актов, с указанием в них перечня казенных учрежд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 декабря 2010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верждение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чней недвижимого имуществ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одведомственных учреждений, закрепленного за ними учредителем или приобретенным за счет средств, выделенных учредителем на эти цели, в целях расчета субсид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 января 2011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ятие решений об отнесении движимого имущества БУ к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обо ценному движимому имуществ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 марта 2011 год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есение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й в уставы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одведомств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х и казенных учрежд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 декабря 2011 год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6" name="Oval 4"/>
          <p:cNvSpPr/>
          <p:nvPr/>
        </p:nvSpPr>
        <p:spPr>
          <a:xfrm>
            <a:off x="838836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0" y="1773360"/>
          <a:ext cx="9144000" cy="911160"/>
        </p:xfrm>
        <a:graphic>
          <a:graphicData uri="http://schemas.openxmlformats.org/drawingml/2006/table">
            <a:tbl>
              <a:tblPr/>
              <a:tblGrid>
                <a:gridCol w="545040"/>
                <a:gridCol w="1055520"/>
                <a:gridCol w="4426200"/>
                <a:gridCol w="31172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и базового зак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нормативного правового акта требующего разрабо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, выпускающий а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0" y="2708280"/>
          <a:ext cx="9144000" cy="2922480"/>
        </p:xfrm>
        <a:graphic>
          <a:graphicData uri="http://schemas.openxmlformats.org/drawingml/2006/table">
            <a:tbl>
              <a:tblPr/>
              <a:tblGrid>
                <a:gridCol w="539640"/>
                <a:gridCol w="1068480"/>
                <a:gridCol w="4403880"/>
                <a:gridCol w="3132000"/>
              </a:tblGrid>
              <a:tr h="192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.  «б» п. 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2 ст. 13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4 ст. 14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2.1 ст. 16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2 ст. 17.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5 ст. 18 и ст. 19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. 5 ФЗ № 174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5 ст. 31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создания, реорганизации, изменения типа и ликвидации государственных учреждений субъектов Российской Федерации (муниципальных учреждений), а также утверждения уставов государственных учреждений субъекта Российской Федерации (муниципальных учреждений) и внесения в них измен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4 ст. 9.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определения платы за оказание бюджетным учреждением субъектов  Российской Федерации (муниципальным учреждением) услуг (выполнение работ), относящихся к основным видам деятельности бюджетного учреждения, для граждан и юридически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0" name="Oval 4"/>
          <p:cNvSpPr/>
          <p:nvPr/>
        </p:nvSpPr>
        <p:spPr>
          <a:xfrm>
            <a:off x="838836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Заголовок 1"/>
          <p:cNvSpPr/>
          <p:nvPr/>
        </p:nvSpPr>
        <p:spPr>
          <a:xfrm>
            <a:off x="2700360" y="115920"/>
            <a:ext cx="6135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едседатель Правительства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 Федеральном закон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51280" y="620640"/>
            <a:ext cx="5292720" cy="2519280"/>
          </a:xfrm>
          <a:prstGeom prst="verticalScroll">
            <a:avLst>
              <a:gd name="adj" fmla="val 5231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40360" y="907920"/>
            <a:ext cx="4679640" cy="19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«…Механизмы бюджетного финансирования должны стать более гибкими, а объем прав и степень самостоятельности конкретных учреждений должен зависеть напрямую от сферы их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17840" indent="53784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Вступительное слово Председателя Правительства Российской Федерации В.В. Путина на совещании в Правительстве Российской Федерации о реструктуризации состава федеральных бюджетных учреждений и оптимизации расходов на их содержание (20 июля 2009 г.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-720" y="1773360"/>
            <a:ext cx="5940360" cy="2520720"/>
          </a:xfrm>
          <a:prstGeom prst="verticalScroll">
            <a:avLst>
              <a:gd name="adj" fmla="val 9064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69800" y="2060640"/>
            <a:ext cx="48974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«…Я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прошу руководителей регионов, не дожидаясь вступления закона в силу, начинать подготовительную работу по его реализации и отнестись к этой работе максимально ответственно.»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8953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Выступление Председателя Правительства Российской Федерации В.В. Путина на заседании Президиума Совета при Президенте Российской Федерации по реализации приоритетных национальных проектов и демографической политике  (26 февраля 2010 г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3573360"/>
            <a:ext cx="8748720" cy="3168720"/>
          </a:xfrm>
          <a:prstGeom prst="verticalScroll">
            <a:avLst>
              <a:gd name="adj" fmla="val 4958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3716280"/>
            <a:ext cx="8353440" cy="28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«Одним из ключевых звеньев предстоящей реформы является совершенствование правового статуса бюджетных учрежд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Цели – повысить качество и эффективность услуг, предоставляемых за счет бюджетных средств; снять устаревшие и избыточные ограничения в работе социальных учреждений страны; переориентировать их на запросы и интересы граждан России. Для бюджетных учреждений будут установлены государственные задания на оказание услуг с четким описанием их объема, требований качества, условий их предост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Конечно, такие услуги будут в полном объеме профинансированы за счет бюдже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Закон достаточно хорошо защищает имущество бюджетных учреждений: на него нельзя обратить изыск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Принятие закона – это только полдела. Фактические результаты этой важнейшей, давно назревшей реформы будут зависеть от работы исполнительной вла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Введение в действие нового механизма должно стать одним из основных критериев оценки должностных лиц всех уровней, непосредственных руководителей бюджетных учреждений, статьи индикатором их профессионализма и самодостаточности.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79064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Выступление Председателя Правительства Российской Федерации В.В. Путина на совместном заседании коллегий Минфина и Минэкономразвития России (14 мая 2010 г.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rcRect l="0" t="3427" r="4224" b="0"/>
          <a:stretch/>
        </p:blipFill>
        <p:spPr>
          <a:xfrm>
            <a:off x="0" y="0"/>
            <a:ext cx="2700360" cy="20415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1440" y="1833480"/>
          <a:ext cx="9142560" cy="3900240"/>
        </p:xfrm>
        <a:graphic>
          <a:graphicData uri="http://schemas.openxmlformats.org/drawingml/2006/table">
            <a:tbl>
              <a:tblPr/>
              <a:tblGrid>
                <a:gridCol w="317520"/>
                <a:gridCol w="1344600"/>
                <a:gridCol w="4540320"/>
                <a:gridCol w="2940120"/>
              </a:tblGrid>
              <a:tr h="144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. 5 и 6 ст. 9.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осуществления бюджетными учреждениями полномочий органа государственной власти субъекта Российской Федерации, органа местного самоуправления по исполнению публичных обязательств перед физическим лицом, подлежащих исполнению в денежной форме и определение порядка финансового обеспечения их осуществ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7 ст. 9.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ие условий и порядка формирования государственного задания и порядок финансового обеспечения выполнения этого задания бюджетными учреждениями субъектов Российской Федерации (муниципальными бюджетными учреждения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1 ст. 9.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 ст. 3 174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определения видов особо ценного движимого имущества, в отношении бюджетных учреждений субъектов Российской Федерации (муниципальных бюджетных учрежден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Oval 4"/>
          <p:cNvSpPr/>
          <p:nvPr/>
        </p:nvSpPr>
        <p:spPr>
          <a:xfrm>
            <a:off x="838836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440" y="1628640"/>
          <a:ext cx="9142560" cy="3024360"/>
        </p:xfrm>
        <a:graphic>
          <a:graphicData uri="http://schemas.openxmlformats.org/drawingml/2006/table">
            <a:tbl>
              <a:tblPr/>
              <a:tblGrid>
                <a:gridCol w="393840"/>
                <a:gridCol w="1268280"/>
                <a:gridCol w="4540320"/>
                <a:gridCol w="294012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2 ст. 9.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еречня особо ценного движимого имущества бюджетного учреждения субъектов Российской Федерации (муниципального бюджетного учрежд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.3 ст. 32 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составления и утверждения плана финансово-хозяйственной деятельности учреждений субъектов Российской Федерации (муниципальных учрежден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.3 ст. 32 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составления  и утверждения Отчета о результатах деятельности муниципального учреждения и об использовании закрепленного за ним муниципального имущ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0" y="4653000"/>
          <a:ext cx="9144000" cy="2006640"/>
        </p:xfrm>
        <a:graphic>
          <a:graphicData uri="http://schemas.openxmlformats.org/drawingml/2006/table">
            <a:tbl>
              <a:tblPr/>
              <a:tblGrid>
                <a:gridCol w="395280"/>
                <a:gridCol w="1265400"/>
                <a:gridCol w="4539960"/>
                <a:gridCol w="294336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5.1 ст. 3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осуществления контроля за деятельностью бюджетных и казенных учреждений субъекта Российской Федерации (муниципальных бюджетных и казенных учрежден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5 ст. 79 БК Р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предоставления бюджетных инвестиций автономным  и бюджетным учреждениям субъектов Российской Федерации (муниципальным автономным и бюджетным учреждения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7" name="Oval 4"/>
          <p:cNvSpPr/>
          <p:nvPr/>
        </p:nvSpPr>
        <p:spPr>
          <a:xfrm>
            <a:off x="838836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0" y="1628640"/>
          <a:ext cx="9144000" cy="4743720"/>
        </p:xfrm>
        <a:graphic>
          <a:graphicData uri="http://schemas.openxmlformats.org/drawingml/2006/table">
            <a:tbl>
              <a:tblPr/>
              <a:tblGrid>
                <a:gridCol w="395280"/>
                <a:gridCol w="1266840"/>
                <a:gridCol w="4538520"/>
                <a:gridCol w="2943360"/>
              </a:tblGrid>
              <a:tr h="99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 ст. 221 БК Р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составления, утверждения и ведения бюджетных смет казенных учреждений субъектов Российской Федерации (муниципальных казенных учрежден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. 3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3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.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открытия и ведения лицевых счетов автономным учреждениям в финансовом органе субъекта Российской Федерации (муниципального образования) и проведения кассовых выплат за счет средств автономных учреждений, лицевые счета которым открыты в финансовом органе субъекта Российской Федерации (муниципальном образовании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. 3, 6 ст. 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открытия и ведения лицевых счетов бюджетным учреждениям субъектов Российской Федерации (муниципальных бюджетных учреждений) в финансовом органе субъекта Российской Федерации (муниципального образования) и порядка проведения кассовых выплат за счет средств бюджетных учреждений субъектов Российской Федерации (муниципальных бюджетных учрежден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. 10 п. 20 ст. 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учета и хранения исполнительных документов, предусматривающих взыскание на средства бюджетных учреждений субъектов Российской Федерации (муниципальных бюджетных учреждений), и иных документов, связанных с их исполнение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0" name="Oval 4"/>
          <p:cNvSpPr/>
          <p:nvPr/>
        </p:nvSpPr>
        <p:spPr>
          <a:xfrm>
            <a:off x="838836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0" y="1700280"/>
          <a:ext cx="9144000" cy="4378320"/>
        </p:xfrm>
        <a:graphic>
          <a:graphicData uri="http://schemas.openxmlformats.org/drawingml/2006/table">
            <a:tbl>
              <a:tblPr/>
              <a:tblGrid>
                <a:gridCol w="468360"/>
                <a:gridCol w="1193760"/>
                <a:gridCol w="4538520"/>
                <a:gridCol w="294336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6 ст.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санкционирования расходов бюджетных учреждений субъектов Российской Федерации (муниципальных бюджетных учреждений), источником финансового обеспечения которых являются субсидии, полученные в соответствии с абзацем вторым части 1 статьи 78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 пунктом 5 статьи 79 Бюджетного кодекса Российской Федера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. 18, 19 ст. 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взыскания в бюджет субъекта Российской Федерации (местный бюджет) неиспользованных в текущем финансовом году остатков субсидий, предоставленных бюджетным учреждениям субъекта Российской Федерации (муниципальным бюджетным учреждения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23 ст. 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перечисления в бюджет субъекта Российской Федерации (местный бюджет) остатков средств с соответствующих счетов, на которых отражаются операции со средствами бюджетных учреждений субъекта Российской Федерации (муниципальных бюджетных учреждений), а также их возврата на указанные с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27 ст. 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редельно допустимых значений просроченной кредиторской задолженности бюджетного учреждения, превышение которых влечет расторжение трудового договора по инициативе работодателя в соответствии с Трудовым кодексом Российской Федерации с руководителем бюджетного учре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Oval 4"/>
          <p:cNvSpPr/>
          <p:nvPr/>
        </p:nvSpPr>
        <p:spPr>
          <a:xfrm>
            <a:off x="8424720" y="656892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(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0" y="1628640"/>
          <a:ext cx="9144000" cy="4837320"/>
        </p:xfrm>
        <a:graphic>
          <a:graphicData uri="http://schemas.openxmlformats.org/drawingml/2006/table">
            <a:tbl>
              <a:tblPr/>
              <a:tblGrid>
                <a:gridCol w="395280"/>
                <a:gridCol w="1266840"/>
                <a:gridCol w="4538520"/>
                <a:gridCol w="2943360"/>
              </a:tblGrid>
              <a:tr h="483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6 ст. 33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формы финансового обеспечения деятельности бюджетных учреждений субъекта Российской Федерации (муниципальных бюджетных учреждений) в переходный период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даты, начиная с которой осуществляется зачисление в бюджет субъекта Российской Федерации (местный бюджет) доходов, полученных казенными учреждениями субъекта Российской Федерации (муниципальными казенными учреждениями) от платных услуг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и направления использования бюджетными учреждениями субъектов Российской Федерации, являющимися получателями бюджетных средств, и казенными учреждениями субъектов Российской Федерации (муниципальными бюджетными учреждениями, являющимися получателями бюджетных средств, и муниципальными казенными учреждениями) доходов от сдачи в аренду имущества, находящегося в государственной собственности субъекта Российской Федерации (муниципальной собственности) и переданного в оперативное управление указанным учрежден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и направления использования бюджетными учреждениями субъектов Российской Федерации, являющимися получателями бюджетных средств, и казенными учреждениями субъектов Российской Федерации (муниципальными бюджетными учреждениями, являющимися получателями бюджетных средств, и муниципальными казенными учреждениями) доходов от оказания платных услуг и иной приносящей доходы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онодательные (представительные) органы государственной власти субъекта Российской Федерации и представительные органы местного самоуправ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6" name="Oval 4"/>
          <p:cNvSpPr/>
          <p:nvPr/>
        </p:nvSpPr>
        <p:spPr>
          <a:xfrm>
            <a:off x="838836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33"/>
                </a:solidFill>
                <a:latin typeface="Tahoma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826920" y="270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09480" indent="-609480" algn="ctr">
              <a:buClr>
                <a:srgbClr val="330033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Общая характеристика бюджетной сети и подходов к ее реформирова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в целях повышения эффективности качества государственных (муниципальных) услу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Основные причины низкой эффективности оказания государственных (муниципальных) услуг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Oval 4"/>
          <p:cNvSpPr/>
          <p:nvPr/>
        </p:nvSpPr>
        <p:spPr>
          <a:xfrm>
            <a:off x="8244000" y="6453360"/>
            <a:ext cx="718920" cy="28872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2195640" y="1844640"/>
            <a:ext cx="4967280" cy="180036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настоящее время за счет средств бюдж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уществля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одержани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т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юджетных учреждений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не зависимост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т объема и качества оказанных ими услу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611280" y="3786120"/>
            <a:ext cx="4176720" cy="250056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бюджетных учрежден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тсутствуют стимулы 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птимизации и повышению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Эффективности - э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 вызван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метны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финансировани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3"/>
          <p:cNvSpPr/>
          <p:nvPr/>
        </p:nvSpPr>
        <p:spPr>
          <a:xfrm>
            <a:off x="4859280" y="3786120"/>
            <a:ext cx="4103640" cy="250056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ольшинство бюджетны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чреждений характеризуются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ысок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епенью закрытости управлен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ногие учреждения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фактическ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«приватизированы» и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ысшим менеджментом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86800" cy="13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Факторы, препятствующие ускорению процесса создания и развития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автономных учреждений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Oval 3"/>
          <p:cNvSpPr/>
          <p:nvPr/>
        </p:nvSpPr>
        <p:spPr>
          <a:xfrm>
            <a:off x="838980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684360" y="1628640"/>
            <a:ext cx="3887640" cy="180036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ложная процедура создан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автономных учреждени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по каждом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реждению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решение Правительства РФ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позволяет осуществить массовы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ход к автономным учреждения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4788000" y="1628640"/>
            <a:ext cx="3814560" cy="180036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сутствие гарантий того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то при переходе в автономно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реждение финансовое полож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реждения не ухудшитс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755640" y="4581360"/>
            <a:ext cx="3816360" cy="216072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Нет явных стимулов к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ереходу в автономные учрежден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учетом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уществующих на практик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широких возможностей для бюджет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учреждени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716360" y="4581360"/>
            <a:ext cx="4103640" cy="208764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ормативные огранич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ля бюджетных учрежден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ивелируются слабым контроле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за их соблюдение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1258920" y="3733920"/>
            <a:ext cx="7058160" cy="558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федеральном уровне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 2006 год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создано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лишь двадцать д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втономных учрежден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2700360" y="342900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4"/>
          <p:cNvSpPr/>
          <p:nvPr/>
        </p:nvSpPr>
        <p:spPr>
          <a:xfrm flipV="1">
            <a:off x="2700360" y="429264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5"/>
          <p:cNvSpPr/>
          <p:nvPr/>
        </p:nvSpPr>
        <p:spPr>
          <a:xfrm>
            <a:off x="6588000" y="342900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6"/>
          <p:cNvSpPr/>
          <p:nvPr/>
        </p:nvSpPr>
        <p:spPr>
          <a:xfrm flipV="1">
            <a:off x="6588000" y="429264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Цель и задачи повышения качества государственных (муниципальных) услуг путем реформирования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 бюджетной сети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Oval 3"/>
          <p:cNvSpPr/>
          <p:nvPr/>
        </p:nvSpPr>
        <p:spPr>
          <a:xfrm>
            <a:off x="838836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684360" y="2637000"/>
            <a:ext cx="4248000" cy="122364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 № 1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здание условий и стимулов для боле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ффективного использ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юджетным учреждением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редств, предоставленных из бюдже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5003640" y="2637000"/>
            <a:ext cx="3673800" cy="122364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 № 2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здание условий дл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едеральных органов вла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тимизации сети учрежд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611280" y="4149720"/>
            <a:ext cx="4248000" cy="259236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Механизм достижения: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i="1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Расширение объема прав</a:t>
            </a:r>
            <a:r>
              <a:rPr b="0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части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ных учреждений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(по аналогии с АУ)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а) переход на субсидии по госзаданию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б) устранение субсидиарной ответственности;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в) полученные доходы поступают в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распоряжение бюджетного учреждения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i="1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Перевод остальных бюджетных учреждений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в</a:t>
            </a:r>
            <a:r>
              <a:rPr b="0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казенные учреждения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с минимальными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правами по распоряжению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доходами и имуществом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4859280" y="4149720"/>
            <a:ext cx="4105440" cy="259236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Механизм достижения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) расширение компетенции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ФОИВ по реорганизации, изменении типа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и ликвидации подведомственных учреждений;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2) установление гарантий сохранения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объема бюджетных ассигнований при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изменении типа учреждения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714240" y="1628640"/>
            <a:ext cx="8178840" cy="8067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Цел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вышение эффективност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предоставления государственных 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униципальных услу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2700360" y="3860640"/>
            <a:ext cx="0" cy="28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5"/>
          <p:cNvSpPr/>
          <p:nvPr/>
        </p:nvSpPr>
        <p:spPr>
          <a:xfrm>
            <a:off x="6659640" y="3860640"/>
            <a:ext cx="0" cy="28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2700360" y="242100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3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Oval 3"/>
          <p:cNvSpPr/>
          <p:nvPr/>
        </p:nvSpPr>
        <p:spPr>
          <a:xfrm>
            <a:off x="838836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9400" y="115920"/>
            <a:ext cx="8994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Этапы реформы и перспектив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16000" y="836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119700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Настоящее врем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95640" y="83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00360" y="119700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Федеральный закон № 83-Ф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36000" y="836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1700280"/>
            <a:ext cx="1871640" cy="3457440"/>
          </a:xfrm>
          <a:prstGeom prst="rect">
            <a:avLst/>
          </a:prstGeom>
          <a:solidFill>
            <a:srgbClr val="d2cce6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2060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П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32000" y="2565360"/>
            <a:ext cx="0" cy="187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1053720" y="3275280"/>
            <a:ext cx="8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Сме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4508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27280" y="1268280"/>
            <a:ext cx="0" cy="4032360"/>
          </a:xfrm>
          <a:prstGeom prst="line">
            <a:avLst/>
          </a:prstGeom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43280" y="1700280"/>
            <a:ext cx="1224000" cy="3457440"/>
          </a:xfrm>
          <a:prstGeom prst="rect">
            <a:avLst/>
          </a:prstGeom>
          <a:solidFill>
            <a:srgbClr val="d2cce6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43280" y="2060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П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16360" y="4508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92360" y="2565360"/>
            <a:ext cx="0" cy="187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6200000">
            <a:off x="3214080" y="32022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Сме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24360" y="1341360"/>
            <a:ext cx="0" cy="3959280"/>
          </a:xfrm>
          <a:prstGeom prst="line">
            <a:avLst/>
          </a:prstGeom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1700280"/>
            <a:ext cx="1081080" cy="3457440"/>
          </a:xfrm>
          <a:prstGeom prst="rect">
            <a:avLst/>
          </a:prstGeom>
          <a:solidFill>
            <a:srgbClr val="d2cce6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43280" y="2060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П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2060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П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16360" y="4508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3284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92360" y="2565360"/>
            <a:ext cx="0" cy="187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72360" y="2492280"/>
            <a:ext cx="0" cy="194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40360" y="350028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20000" y="3429000"/>
            <a:ext cx="865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956720" y="2205000"/>
            <a:ext cx="1079280" cy="2664000"/>
          </a:xfrm>
          <a:prstGeom prst="rect">
            <a:avLst/>
          </a:prstGeom>
          <a:solidFill>
            <a:srgbClr val="ccffcc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40360" y="364500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Субсид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48360" y="3645000"/>
            <a:ext cx="93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Оплата услу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4508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3214080" y="32022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Сме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6094080" y="32022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Сме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956720" y="2852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956720" y="4149720"/>
            <a:ext cx="11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иные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Ю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956720" y="22050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ы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923240" y="33894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87880" y="414324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72040" y="3881520"/>
            <a:ext cx="6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5445000"/>
            <a:ext cx="7345440" cy="1297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6308640"/>
            <a:ext cx="647640" cy="360360"/>
          </a:xfrm>
          <a:prstGeom prst="rect">
            <a:avLst/>
          </a:prstGeom>
          <a:solidFill>
            <a:srgbClr val="ccffcc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580536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П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92360" y="58770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92360" y="6165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56000" y="645336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ные Ю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00000" y="5805360"/>
            <a:ext cx="251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ублично-правовое образо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16000" y="630864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56000" y="587700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юджетное учрежд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616572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азенное учрежд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84720" y="6453360"/>
            <a:ext cx="31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ные юридические лиц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00000" y="5950080"/>
            <a:ext cx="7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11640" y="6021360"/>
            <a:ext cx="7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11640" y="6308640"/>
            <a:ext cx="7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11640" y="6597720"/>
            <a:ext cx="7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544500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Обозначения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4000" y="5805360"/>
            <a:ext cx="647640" cy="432000"/>
          </a:xfrm>
          <a:prstGeom prst="rect">
            <a:avLst/>
          </a:prstGeom>
          <a:solidFill>
            <a:srgbClr val="d2cce6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7040" y="582120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П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24360" y="119700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Возможная перспекти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826920" y="270828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ершенствование статуса бюджетных учреждений: основные изменения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 и этап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08:20:31Z</dcterms:created>
  <dc:creator>Alexey.Starovoytov</dc:creator>
  <dc:description/>
  <dc:language>en-US</dc:language>
  <cp:lastModifiedBy>Валева</cp:lastModifiedBy>
  <cp:lastPrinted>2009-05-16T07:21:51Z</cp:lastPrinted>
  <dcterms:modified xsi:type="dcterms:W3CDTF">2010-05-19T14:55:21Z</dcterms:modified>
  <cp:revision>693</cp:revision>
  <dc:subject/>
  <dc:title>Слайд 1</dc:title>
</cp:coreProperties>
</file>