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402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27FB87-C091-49EC-B067-E9EFAFC55C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E0D35D-1595-4E60-8048-854434E918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BB969A-0827-4D17-8243-134F9C3C6E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827-7857-4C85-AC79-6E024FC7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1D35-BA58-402B-B3E1-313DA11C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AB0-DBC9-49A0-B110-3A4C1182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C0D-63F0-486F-896F-0155F1D5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75EC-50AC-4A53-AA87-52430C698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EE40-8E0E-45F2-837C-F23289C1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F263-AD75-4E0B-8460-8409F57E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F6FB-C543-41D0-A338-5ADEF496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49691-3E58-4DA6-97EB-8CC39690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CB1D-3C8A-41A3-8286-D7089A74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E54F-C254-406C-987D-9E2888A7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F79-6D06-4599-AEB8-92A263E1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542B-0439-463B-95D9-7B86FB8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869A-756A-47A3-8F48-E5FD6340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42C-2981-413C-AEDF-E0E080A1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9378-72F5-413E-AFCB-EC97FE5E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BDC5-EC3E-481F-86C4-56926B9B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366-D744-4C82-B5D6-B657FDE3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52C-64F2-494D-BE87-DE947DF2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ABD-3FD3-414E-A854-046D8C6A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C2EC-38DD-4F6C-9A3D-F172E6D4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A71-DFBD-47B1-AE55-CB5B190B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1C43-FD8B-4811-BA04-E9E49E89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A1A-1A5F-4AB4-B2F0-160D5676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EEE7-E272-4BBA-BEB4-F697F1AC280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11CC46C-37A5-4B2D-BE51-DD9055A2B2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>
              <a:gd name="textAreaLeft" fmla="*/ 0 w 185760"/>
              <a:gd name="textAreaRight" fmla="*/ 186120 w 185760"/>
              <a:gd name="textAreaTop" fmla="*/ 0 h 6402240"/>
              <a:gd name="textAreaBottom" fmla="*/ 6402600 h 6402240"/>
            </a:gdLst>
            <a:ahLst/>
            <a:rect l="textAreaLeft" t="textAreaTop" r="textAreaRight" b="textAreaBottom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9DE4-23F3-4DF8-A1AE-CAA43A06ED3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C9B6ECF-1945-4A18-AB41-0A8B47C6A4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395280" y="2352960"/>
            <a:ext cx="82803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b9"/>
                </a:solidFill>
                <a:latin typeface="Times New Roman"/>
              </a:rPr>
              <a:t>О Порядке санкционирования расходов федеральных  государственных учреждений, источником финансового обеспечения которых являются субсидии, полученные в соответствии с абзацем вторым пункта 1 статьи 78.1 Бюджетного кодекса Российской Федерации</a:t>
            </a:r>
            <a:r>
              <a:rPr b="0" lang="ru-RU" sz="2400" spc="-1" strike="noStrike">
                <a:solidFill>
                  <a:srgbClr val="2d2db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486900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ладчик: Саакян Т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директора Департамента бюджетной политики и метод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финанс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22100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4 июня 2010 г.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9B54-A3F4-41ED-AFA3-8952CC5CAF0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8760" y="928800"/>
            <a:ext cx="83152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Федеральным законом № 83-ФЗ от 08.05.2010 г. выделено три типа государственных учреждений: автономные, бюджетные и казенные. 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28760" y="2143080"/>
            <a:ext cx="83246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Функции и полномочия учредителя в отношении государственного учреждения, созданного Российской Федерацией, в случае, если иное не установлено федеральными законами, нормативными правовыми актами Президента Российской Федерации или Правительства Российской Федерации, осуществляются соответственно уполномоченным федеральным органом исполнительной власти. Таким образом, необходимо систематизировать и регламентировать деятельность федеральных органов исполнительной власти по осуществлению ими функций и полномочий учредителей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автономных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х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казе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государственных учреждений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82BE-7F2F-4EDC-B2CB-BCE5D7E351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13840" y="785520"/>
            <a:ext cx="865836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В настоящее время действует постановление Правительства Российской Федерации «Об утверждении Положения об осуществлении федеральными органами исполнительной власти функций и полномочий учредителя федерального автономного учреждения» от 10.10.2007 № 662, которое нуждается в изменениях в связи с принятием Федерального закона № 83-ФЗ от 08.05.2010 г. </a:t>
            </a:r>
            <a:br>
              <a:rPr sz="2000"/>
            </a:b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7120" y="3357720"/>
            <a:ext cx="8531280" cy="24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Аналогичные документы по осуществлению федеральными органами исполнительной власти функций и полномочий учредителя бюджетных и казенных учреждений отсутствуют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В тоже время действует большое количество отсылочных и перекрестных норм, закрепленных в различных нормативных ак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Это значительно осложняет правоприменительную практи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6A25-0CC3-4F90-A349-A70E09F982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редлагаемый проект постановления Правительства Российской Федерации «Об утверждении Положений об осуществлении федеральными органами исполнительной власти функций и полномочий учредителя федерального учреждения» содержит три приложения, в которых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28760" y="2571480"/>
            <a:ext cx="8324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утверждается Положение об осуществлении федеральными органами исполнительной власти функций и полномочий учредителя федерального бюджет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утверждается Положение об осуществлении федеральными органами исполнительной власти функций и полномочий учредителя федерального казенного учрежд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носятся изменения в постановление Правительства Российской Федерации «Об утверждении Положения об осуществлении федеральными органами исполнительной власти функций и полномочий учредителя федерального автономного учреждения» от 10.10.2007 № 66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B668-C175-4D75-BC90-2AFD0732B8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28760" y="999720"/>
            <a:ext cx="8324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в проекте также предлагается федеральным органам исполнительной власти, не позднее 1 октября 2010 г. разработать и утвердить 8 различных порядков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ения федеральным органом исполнительной власти функций и полномочий учредителя. Данные порядки необходимы для осуществления федеральными органами исполнительной власти функций и полномочий учредителя федерального государственного учре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енно часть функций и полномочий учредителя федерального государственного учреждения будет осуществляться по порядкам, утвержденным Правительством Российской Федерации, а часть по порядкам, утвержденным федеральными органами исполнительной вла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0930-8521-40C8-9FE3-2464239E84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ень функций и полномочий учредителя федерального государственного учреждения порядки, по которым будут приняты Правительством Российской Федераци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47840" y="1857240"/>
            <a:ext cx="83246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ункции и полномочия учредителя федерального бюджетного учреждения при его создании, реорганизации, изменении типа, ликвидаци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утверждение устава федерального бюджетного учреждения, а также вносимые в него измен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и утверждение государственного задания на оказание государственных услуг (выполнение работ) юридическим и физическим лицам в соответствии с предусмотренными уставом федерального бюджетного учреждения основными видами деятельности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еречня особо ценного движимого имущества, закрепленного за федеральным бюджетным учреждением учредителем или приобретенного бюджетным учреждением за счет средств, выделенных ему учредителем на приобретение такого имущества, а также внесение в него изменений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ение финансовое обеспечение выполнения государственного зада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4F78-9F40-4212-8425-44F81FC681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029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ень функций и полномочий учредителя федерального государственного учреждения порядки, по которым будут приняты федеральными органами исполнительной власт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47840" y="2071440"/>
            <a:ext cx="832464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предварительное согласование совершения федеральным бюджетным учреждением крупных сделок, соответствующих критериям, установленным в пункте 13 статьи 9.2 Федерального закона № 7-ФЗ «О некоммерческих организациях»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принятие решения об одобрении действий, в том числе сделок с участием  федерального бюджетного учреждения, в совершении которых имеется заинтересованность, определяемая в соответствии с критериями, установленными в статье 27 Федерального закона № 7-ФЗ «О некоммерческих организациях»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2714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распоряжения особо ценным движимым имуществом, закрепленным за федеральным бюджетным учреждением учредителем либо приобретенным федеральным бюджетным учреждением за счет средств, выделенных его учредителем на приобретение такого имуществ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56FA-A273-48ED-8A91-6403B86025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57120" y="642600"/>
            <a:ext cx="84153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распоряжения недвижимым имуществом федерального бюджетного учреждения, в том числе передачу в аренду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внесения федеральным бюджетным учреждением, в случаях и порядке, предусмотренных федеральными законами, денежных средств (если иное не установлено условиями их предоставления), иного имущества за исключением особо ценного движимого имущества, а также недвижимого имущества, в уставный (складочный) капитал хозяйственных обществ или иным образом передачу им это имущество в качестве их учредителя или участник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согласование передачи некоммерческим организациям в качестве их учредителя или участника денежных средств (если иное не установлено условиями их предоставления) и иного имущества, за исключением особо ценного движимого имущества, закрепленного за ним собственником или приобретенного бюджетным учреждением за счет средств, выделенных ему собственником на приобретение такого имущества, а также недвижимого имущества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181080" indent="444240"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0"/>
                <a:tab algn="l" pos="9036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редельно допустимого значения просроченной кредиторской задолженности федерального бюджетного учреждения, превышение которого влечет расторжении трудового договора с руководителем федерального бюджетного учреждения по инициативе работодателя в соответствии с Трудовым кодексом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B5C1-458A-4BD2-9AAC-A46576A712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47840" y="856800"/>
            <a:ext cx="832464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Федеральный орган исполнительной власти, осуществляющий функции и полномочия учредителя федерального государственного учреждения такж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назначает (утверждает) руководителя федерального бюджетного учреждения и прекращает его полномоч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заключает и прекращает трудовой договор с руководителем федерального бюджетного учрежде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устанавливает порядок определения платы для физических и юридических лиц за услуги (работы), относящиеся к основным видам деятельности федерального бюджетного учреждения, оказываемые им  сверх установленного государственного задания, а также в случаях, определенных федеральными законами, в пределах установленного государственного задания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ru-RU" sz="1700" spc="-1" strike="noStrike">
                <a:solidFill>
                  <a:srgbClr val="000066"/>
                </a:solidFill>
                <a:latin typeface="Arial"/>
                <a:ea typeface="Arial"/>
              </a:rPr>
              <a:t>осуществляет иные функции и полномочия учредителя, установленные федеральными законами и нормативными правовыми актами Президента Российской Федерации и Правительства Российской Федерации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766F-88B6-464A-9422-DF6B9F3DC8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2600" y="9997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еречни функций и полномочий учредителя федерального государственного учреждения, осуществляемые в соответствии с требованиями, устанавливаемые Минфином России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28760" y="2500200"/>
            <a:ext cx="832464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орядка составления и утверждения отчета о результатах  деятельности федерального бюджетного учреждения и об использовании закрепленного за ним федерального имуществ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определение порядка составления и утверждения плана финансово-хозяйственной деятельности федерального бюджетного учрежд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0D25-9F84-4D86-9D2F-235062E50F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071360"/>
            <a:ext cx="802944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Решения</a:t>
            </a:r>
            <a:r>
              <a:rPr b="1" lang="ru-RU" sz="20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о функциям и полномочиям учредителя федерального государственного учреждения, связанные с недвижимым имуществом и денежными средствами принимаются федеральным органом исполнительной власти по согласованию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47840" y="3071520"/>
            <a:ext cx="832464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36180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 Федеральным агентством по управлению государственным имуществом, за исключением федеральных бюджетных учреждений, находящихся в ведении Министерства обороны Российской Федерации, Управления делами Президента Российской Федерации и Федерального агентства морского и речного транспо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BA02-666B-43F3-9548-373BB49721B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9228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юджетный кодекс Российской Федерации (в ред. Закона № 83-ФЗ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татья 78.1. Предоставление субсидий некоммерческим организациям, не являющимся  казенными учрежд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1………………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Из бюджетов бюджетной системы Российской Федерации могут предоставляться субсидии бюджетным и автономным учреждениям на иные ц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рядок определения объема и условия  предоставления указанных субсидий из федерального бюджета и бюджетов государственных внебюджетных фондов Российской Федерации, бюджетов субъектов Российской Федерации и бюджетов территориальных государственных внебюджетных фондов, местных бюджетов устанавливается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F4BA-7092-4C24-8870-6A0DFD0160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78880"/>
            <a:ext cx="777240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47840" y="1357200"/>
            <a:ext cx="832464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постановление вступит в силу с 1 января 2011 г.</a:t>
            </a:r>
            <a:r>
              <a:rPr b="1" lang="ru-RU" sz="2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66"/>
                </a:solidFill>
                <a:latin typeface="Arial"/>
              </a:rPr>
              <a:t>До 1 июня 2011 внести изменения в устав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3CEF-102B-4DD1-B69B-570D44F00A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Заголовок 1"/>
          <p:cNvSpPr/>
          <p:nvPr/>
        </p:nvSpPr>
        <p:spPr>
          <a:xfrm>
            <a:off x="324000" y="549360"/>
            <a:ext cx="8656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76280"/>
            <a:ext cx="9144000" cy="65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татья 30 Федерального закона от 8 мая 2010 г. № 83-Ф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Операции со средствам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поступающими федеральным бюджетным учреждениям, бюджетным учреждениям субъекта Российской Федерации, муниципальным бюджетным учреждениям из соответствующего бюджета бюджетной системы Российской Федераци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 в порядке, установленном соответственно Правительством Российской Федерации, высшим исполнительным органом государственной власти субъекта Российской Федерации, местной администрацией муниципального образования, учитываютс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а отдельном лицевом счете бюджетного учреждения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6. Расходы бюджетных учреждений, источником финансового обеспечения которых являются средства, полученные бюджетными учреждениям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, осуществляются после проверки документов, подтверждающих возникновение денежных обязательств, и соответствия содержания операции кодам классификации операций сектора государственного управления и целям предоставления субсидии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порядком санкционирования указанных расходов, установленным соответствующим финансовым органом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, с учетом положений пункта 7 части 20 настоящей стать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………………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Не использованные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текущем финансовом году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остатк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средств, предоставленных бюджетным учреждениям из соответствующего бюджета бюджетной системы Российской Федерации в соответствии с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бзацем вторым пункта 1 статьи 78.1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и пунктом 5 статьи 79 Бюджетного кодекса Российской Федерации (в редакции настоящего Федерального закона),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длежат перечисл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бюджетными учреждениями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соответствующий бюджет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. Остатки средств, перечисленные бюджетными учреждениями в соответствующий бюджет, могут быть возвращены бюджетным учреждениям в очередном финансовом году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и наличии потребности в направлении их на те же цели в соответствии с решением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соответствующего главного распорядителя бюджетных сред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375E-E4A7-439C-A7EC-ED42797074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708280"/>
            <a:ext cx="7201080" cy="414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Book Antiqua"/>
              </a:rPr>
              <a:t>Лицевой счет, п</a:t>
            </a: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роверка расчетного документа (Заявки) 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казанного в расчетном документе (Заявк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а (кодов) КОСГУ и кода субсидии  в Свед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соответствие указанного в расчетном документе (Заявке) кода КОСГУ, коду КОСГ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ному в Сведениях по соответствующему коду субсид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соответствие указанных в расчетном документе и Заявке кодов КОСГ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овому назначению платежа, исходя из содержания текста назначения платежа,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ответствии с утвержденным в установленном порядке Министерством финансов Россий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ции порядком применения бюджетной классификации Российской Феде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соответствие содержания операции по оплате денежных обязательств на поставки товар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олнение работ, оказание услуг, аренды, исходя из документа-основа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ду КОСГУ и содержанию текста назначения платежа, указанным в расчетном докумен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) непревышение суммы в расчетном документе (Заявке) над суммой остатка соответствующ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правления расходов по коду КОСГУ и соответствующему коду субсид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тенным на лицевом счет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) соответствие  информации, указанной в расчетном документе и Заявке, Свед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1413000"/>
            <a:ext cx="237636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Орг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Федер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19280" y="1989000"/>
            <a:ext cx="1584360" cy="144720"/>
          </a:xfrm>
          <a:prstGeom prst="rightArrow">
            <a:avLst>
              <a:gd name="adj1" fmla="val 50000"/>
              <a:gd name="adj2" fmla="val 27369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  </a:t>
            </a: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ЗКР с указ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</a:t>
            </a: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кода субсид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7932600" y="4820760"/>
            <a:ext cx="406440" cy="1079280"/>
          </a:xfrm>
          <a:prstGeom prst="downArrow">
            <a:avLst>
              <a:gd name="adj1" fmla="val 50000"/>
              <a:gd name="adj2" fmla="val 663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 Antiqu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9360"/>
            <a:ext cx="88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66"/>
                </a:solidFill>
                <a:uFillTx/>
                <a:latin typeface="Times New Roman"/>
              </a:rPr>
              <a:t>Схема осуществления санкционирования по целевым субсид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459640" y="0"/>
            <a:ext cx="68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514185"/>
                </a:solidFill>
                <a:latin typeface="Book Antiqua"/>
              </a:rPr>
              <a:t>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1052640"/>
            <a:ext cx="1513080" cy="15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ФО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(учредител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125360"/>
            <a:ext cx="5688000" cy="287640"/>
          </a:xfrm>
          <a:prstGeom prst="rightArrow">
            <a:avLst>
              <a:gd name="adj1" fmla="val 50000"/>
              <a:gd name="adj2" fmla="val 49436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b9"/>
                </a:solidFill>
                <a:latin typeface="Book Antiqua"/>
              </a:rPr>
              <a:t>Свед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d2db9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580000" y="1773360"/>
            <a:ext cx="1944720" cy="142920"/>
          </a:xfrm>
          <a:prstGeom prst="rightArrow">
            <a:avLst>
              <a:gd name="adj1" fmla="val 50000"/>
              <a:gd name="adj2" fmla="val 34017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Све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24720" y="1125360"/>
            <a:ext cx="1441440" cy="151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Бюджет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80000" y="2205000"/>
            <a:ext cx="1944720" cy="287280"/>
          </a:xfrm>
          <a:prstGeom prst="rightArrow">
            <a:avLst>
              <a:gd name="adj1" fmla="val 50000"/>
              <a:gd name="adj2" fmla="val 16923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Расчетный докуме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Заявка на налич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b9"/>
                </a:solidFill>
                <a:latin typeface="Book Antiqu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640720" y="4437000"/>
            <a:ext cx="50328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Book Antiqua"/>
              </a:rPr>
              <a:t>контраг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3E7E-B424-42EB-855A-9B4DBE7B14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141E-07A2-4475-B5D7-4E4AAE976B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179280" y="1125360"/>
            <a:ext cx="84582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298440" y="692280"/>
            <a:ext cx="8845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Times New Roman"/>
                <a:ea typeface="Arial"/>
              </a:rPr>
              <a:t>Порядок взыскания неиспользованных остатков субсидий, предоставленных из федерального бюджета бюджетным учреж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11280" y="1557360"/>
            <a:ext cx="8227800" cy="72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 1 января неиспользованные остатки целевых субсидий учитываются ОФК как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уммы без права расхо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24360" y="2781360"/>
            <a:ext cx="1868760" cy="129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116000" y="2781360"/>
            <a:ext cx="1800360" cy="143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16000" y="422100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учреди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0" y="400536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бюджетное учреж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88000" y="5300640"/>
            <a:ext cx="108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1"/>
          <p:cNvSpPr/>
          <p:nvPr/>
        </p:nvSpPr>
        <p:spPr>
          <a:xfrm>
            <a:off x="3851280" y="5445000"/>
            <a:ext cx="2736720" cy="792360"/>
          </a:xfrm>
          <a:prstGeom prst="can">
            <a:avLst>
              <a:gd name="adj" fmla="val 15907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10800000"/>
          </a:gra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6587280" y="3715920"/>
            <a:ext cx="1018440" cy="1896120"/>
          </a:xfrm>
          <a:prstGeom prst="bentConnector3">
            <a:avLst>
              <a:gd name="adj1" fmla="val -224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885080" y="3789360"/>
            <a:ext cx="93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4149720"/>
            <a:ext cx="11509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врат  остатков целевых субсидий, в которых отсутствует потребность (до 1 июля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328464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4000" y="285264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Уведомление по взаимным рас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33577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до 1 ию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258920" y="4653000"/>
            <a:ext cx="1962000" cy="1512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476360" y="59500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276360" y="3789360"/>
            <a:ext cx="237492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67280" y="4365720"/>
            <a:ext cx="1726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429264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Сведения (Приложение к Плану ФХД до 1 июл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5661000"/>
            <a:ext cx="93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Взыскание после 1 ию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558972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E0E9-8951-4C18-BE2B-1A929A0F8E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-723960" y="-219240"/>
            <a:ext cx="10593360" cy="729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8959-59A4-4782-921A-7B3B78B061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719280" y="-174600"/>
            <a:ext cx="10582560" cy="720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E2EB-2C35-4671-8B4C-0DF9474DB8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116000" y="2133720"/>
            <a:ext cx="727236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ект постановления Правительств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«О порядке осущест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федеральными органами исполнительной власти функций и полномочий учредителя федерального государственного учрежд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MF_emblema [Converted]"/>
          <p:cNvPicPr/>
          <p:nvPr/>
        </p:nvPicPr>
        <p:blipFill>
          <a:blip r:embed="rId1"/>
          <a:stretch/>
        </p:blipFill>
        <p:spPr>
          <a:xfrm>
            <a:off x="785880" y="857160"/>
            <a:ext cx="879480" cy="108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5B5E-630D-4090-9094-FDE738D18C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14185"/>
                </a:solidFill>
                <a:latin typeface="Arial"/>
                <a:ea typeface="Arial"/>
              </a:rPr>
              <a:t>Предлагаемый проект постановления Правительства РФ разработан с целью:</a:t>
            </a:r>
            <a:endParaRPr b="0" lang="en-US" sz="2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99680" y="2286000"/>
            <a:ext cx="8325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положений Федерального закона от 8 мая 2010 г. № 83-ФЗ 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457200" algn="just"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систематизации и объединения норм федерального законодательства относительно осуществлении федеральными органами исполнительной власти функций и полномочий учредителя федеральных государственных учреждений всех типов в едином подзаконном нормативном правовом ак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C560-81B7-460B-8864-3440AC814C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9945</cp:lastModifiedBy>
  <cp:lastPrinted>2009-06-02T16:42:35Z</cp:lastPrinted>
  <dcterms:modified xsi:type="dcterms:W3CDTF">2010-06-23T15:46:12Z</dcterms:modified>
  <cp:revision>1029</cp:revision>
  <dc:subject/>
  <dc:title>No Slide Title</dc:title>
</cp:coreProperties>
</file>