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0C7B27-30BD-402E-845F-821CAFB574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3A1C20-6D30-4E37-9343-46FCBC8177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0EAD3-43FD-4887-A25B-442602340C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22C-F51F-427C-B234-6BD8DF13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C1E-A4A3-4E82-B575-E23D21DE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1FD-4E9E-4252-9BBA-FD7D7746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41D-712A-4DDD-B618-07F603E4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25F3-B565-469B-8DA4-B7CE61A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8B70-076C-4892-9ABD-6152AD38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A48F-6FEB-4AB1-9A0C-68390D4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D5D0-666E-44E3-AA8E-F107A06E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BB8-4C2E-4CFE-9EEB-4945CA69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6D68-F57C-41FB-A6C9-8C6287D4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E7F9-99BA-41DD-837A-9995F49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E13-4548-423F-B2BB-7A007169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C43-1339-40B1-992C-CA66F71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C3CA-4325-4C13-ADA1-3A4824A7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E04A-56A3-40ED-98AD-FDEF441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CE44-8529-44C7-B040-E5B38623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6361-F17F-4572-8A60-B4E2BA2B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967-C090-4B94-9780-F8A5B226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ACF-E324-404D-8807-822847C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237-8B3B-41B9-8A21-D275F651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5FF-2A8A-4BA8-8A1B-B41B3F9B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8C3-80B7-47A9-8E1D-F1419CF5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278-93CD-4EF4-91BB-CFBDCDB3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181-0222-452C-A7B8-F10D33C2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2AE3-FFA8-4F87-896A-618FB5D3E1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F265F6C-B871-4AFD-9A86-EB5AAFD585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prstGeom prst="pie">
            <a:avLst/>
          </a:pr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F4AC-AAC5-4D63-A383-F28BFE534C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2EE9284-A721-481E-AB63-376C29B905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116000" y="2133720"/>
            <a:ext cx="7272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Порядок формирования и финансового обеспечения государственных зада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Горячая линия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orum.iminfin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C6EC-1A61-49F6-95A2-38C644C422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1125360"/>
            <a:ext cx="8964720" cy="2808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8360" y="205596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9447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96360" y="1738440"/>
            <a:ext cx="143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подходов к формированию перечней государственных услуг</a:t>
            </a:r>
            <a:r>
              <a:rPr b="0" lang="ru-RU" sz="2200" spc="-1" strike="noStrike">
                <a:solidFill>
                  <a:srgbClr val="514185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341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 настоящее врем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1268280"/>
            <a:ext cx="107928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17733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2852640"/>
            <a:ext cx="158436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обрнау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35640" y="2746440"/>
            <a:ext cx="1657440" cy="75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здрав-соц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53440" y="2708280"/>
            <a:ext cx="143964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Минкульт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41418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2637000"/>
            <a:ext cx="2016000" cy="750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 вышестоящего министе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76720" y="1557360"/>
            <a:ext cx="100800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4000" y="1557360"/>
            <a:ext cx="237672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76720" y="1700280"/>
            <a:ext cx="432000" cy="2872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140360" y="1700280"/>
            <a:ext cx="358560" cy="360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195280" y="2276640"/>
            <a:ext cx="431640" cy="3603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49228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44000" y="242100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4581360"/>
            <a:ext cx="223200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1125"/>
              </a:spcBef>
              <a:buClr>
                <a:srgbClr val="3333cc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 Narrow"/>
              </a:rPr>
              <a:t>Базовый (отраслевой) перечень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 министерства в сфере регул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3860640"/>
            <a:ext cx="644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Ведомственный перечень ФОИ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Arial Narrow"/>
              </a:rPr>
              <a:t>(с правом дополнения и детализации базовых (отраслевых) перечне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637000"/>
            <a:ext cx="0" cy="215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5203800"/>
            <a:ext cx="158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образования (ВУЗы, колледж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170320"/>
            <a:ext cx="2087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здравохр-я (поликлиники, больницы, санатори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5097600"/>
            <a:ext cx="1511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ФГУ культуры (библиотеки, музе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4556160"/>
            <a:ext cx="934920" cy="36828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5025960"/>
            <a:ext cx="1224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рофильные отраслевые ФГ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6140520"/>
            <a:ext cx="5113440" cy="312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Перечень услуг ФОИ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850920" y="4843440"/>
            <a:ext cx="1079640" cy="2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4843440"/>
            <a:ext cx="1944720" cy="217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4987800"/>
            <a:ext cx="288720" cy="2876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932360" y="4941720"/>
            <a:ext cx="287280" cy="333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01080" y="5853240"/>
            <a:ext cx="0" cy="2142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5851440"/>
            <a:ext cx="0" cy="216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2BBD-5CCF-473C-8563-3A46329A0A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1125360"/>
            <a:ext cx="8964720" cy="1943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6160" y="549360"/>
            <a:ext cx="9198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Изменение формата перечня гос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2205000"/>
          <a:ext cx="8424720" cy="676440"/>
        </p:xfrm>
        <a:graphic>
          <a:graphicData uri="http://schemas.openxmlformats.org/drawingml/2006/table">
            <a:tbl>
              <a:tblPr/>
              <a:tblGrid>
                <a:gridCol w="1474560"/>
                <a:gridCol w="1405080"/>
                <a:gridCol w="2057400"/>
                <a:gridCol w="1758960"/>
                <a:gridCol w="172872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еквизиты НПА, утверждающего адм.регла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0" y="1557360"/>
            <a:ext cx="91440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еречень утверждает отраслевое министерство для всех учреждений соотв. от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 форм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760920"/>
            <a:ext cx="309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ff7c8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О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</a:t>
            </a:r>
            <a:r>
              <a:rPr b="0" lang="ru-RU" sz="1800" spc="-1" strike="noStrike">
                <a:solidFill>
                  <a:srgbClr val="3333cc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200" y="4552920"/>
          <a:ext cx="8866440" cy="809640"/>
        </p:xfrm>
        <a:graphic>
          <a:graphicData uri="http://schemas.openxmlformats.org/drawingml/2006/table">
            <a:tbl>
              <a:tblPr/>
              <a:tblGrid>
                <a:gridCol w="1378080"/>
                <a:gridCol w="1584360"/>
                <a:gridCol w="1800000"/>
                <a:gridCol w="2664000"/>
                <a:gridCol w="144000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тегории потребите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еречень и единицы измерения показателей объем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сновные требования к качеству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именование ФГУ (групп ФГ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 rot="16200000">
            <a:off x="1585080" y="2913840"/>
            <a:ext cx="284400" cy="2952720"/>
          </a:xfrm>
          <a:custGeom>
            <a:avLst/>
            <a:gdLst>
              <a:gd name="textAreaLeft" fmla="*/ 0 w 284400"/>
              <a:gd name="textAreaRight" fmla="*/ 102600 w 28440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4920" y="3573360"/>
            <a:ext cx="331308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Министерство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 ВПРАВЕ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  (в ряде случаев – обязано)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утвердить в </a:t>
            </a:r>
            <a:r>
              <a:rPr b="0" lang="ru-RU" sz="1800" spc="-1" strike="noStrike">
                <a:solidFill>
                  <a:srgbClr val="336600"/>
                </a:solidFill>
                <a:latin typeface="Arial Narrow"/>
              </a:rPr>
              <a:t>базово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ереч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6968160" y="3481920"/>
            <a:ext cx="284040" cy="4067280"/>
          </a:xfrm>
          <a:custGeom>
            <a:avLst/>
            <a:gdLst>
              <a:gd name="textAreaLeft" fmla="*/ 0 w 284040"/>
              <a:gd name="textAreaRight" fmla="*/ 102600 w 284040"/>
              <a:gd name="textAreaTop" fmla="*/ 105840 h 4067280"/>
              <a:gd name="textAreaBottom" fmla="*/ 3961440 h 40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4234"/>
                </a:lnTo>
                <a:cubicBezTo>
                  <a:pt x="10800" y="15134"/>
                  <a:pt x="16200" y="16034"/>
                  <a:pt x="21600" y="16034"/>
                </a:cubicBezTo>
                <a:cubicBezTo>
                  <a:pt x="16200" y="16034"/>
                  <a:pt x="10800" y="16934"/>
                  <a:pt x="10800" y="1783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114768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В   НАСТОЯЩЕЕ    ВРЕМ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068640"/>
            <a:ext cx="74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ЕДЛАГАЕТСЯ (приложение 2 к проекту постановления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5328360" y="2169000"/>
            <a:ext cx="287640" cy="4390920"/>
          </a:xfrm>
          <a:custGeom>
            <a:avLst/>
            <a:gdLst>
              <a:gd name="textAreaLeft" fmla="*/ 0 w 287640"/>
              <a:gd name="textAreaRight" fmla="*/ 103680 w 28764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3604"/>
                </a:lnTo>
                <a:cubicBezTo>
                  <a:pt x="10800" y="4504"/>
                  <a:pt x="16200" y="5404"/>
                  <a:pt x="21600" y="5404"/>
                </a:cubicBezTo>
                <a:cubicBezTo>
                  <a:pt x="16200" y="5404"/>
                  <a:pt x="10800" y="6304"/>
                  <a:pt x="10800" y="720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2557080" y="3211200"/>
            <a:ext cx="284040" cy="4608360"/>
          </a:xfrm>
          <a:custGeom>
            <a:avLst/>
            <a:gdLst>
              <a:gd name="textAreaLeft" fmla="*/ 0 w 284040"/>
              <a:gd name="textAreaRight" fmla="*/ 102600 w 2840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000" y="5848200"/>
            <a:ext cx="446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33cc"/>
                </a:solidFill>
                <a:latin typeface="Arial Narrow"/>
              </a:rPr>
              <a:t>ОБЯЗА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5848200"/>
            <a:ext cx="41036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ФОИВ </a:t>
            </a:r>
            <a:r>
              <a:rPr b="1" lang="ru-RU" sz="1800" spc="-1" strike="noStrike">
                <a:solidFill>
                  <a:srgbClr val="336600"/>
                </a:solidFill>
                <a:latin typeface="Arial Narrow"/>
              </a:rPr>
              <a:t>ВПРАВ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в ряде случаев – обязано) утвердить в ведомственном перечне (с правом дополнения и детализа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0F14-C2A3-404E-8165-365EA9B473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Требования к качеству госуслуги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53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1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РОЦЕССУ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(технологии) оказания госуслуги (образовательные стандарты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ограммы, протоколы лечения, административные регламенты и т.д.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если утверждены нормативным правовым актом Правительства РФ или Министерства, указываются в базовом (отраслевом) и ведомственном перечне в обязательном порядке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сылка. ПРОБЛЕМА – скрытые нефинансируемые мандаты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-  если утверждены нормативным правовым актом ФОИВ (при наличии полномочий), указываются в ведомственном перечне госуслуг в обязательном порядке (ссылка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по решению Министерства и (или) ФОИВ в базовом и (или) ведомственном перечне могут указываться дополнительные требования (с приложением к перечню)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2) Требования к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УСЛОВИЯМ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оказания госуслуги (помещениям, оборудованию и т.д.) – аналогично (ПРОБЛЕМА – скрытые нефинансируемые мандаты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3) Показатели, используемые для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ОЦЕНКИ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результатов оказания услуг (удовлетворенность потребителей, ЕГЭ и т.д.) – указываются по решению Министерства (в базовом перечне) и (или) ФОИВ (в ведомственном перечне)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а основе подпрограмм по оказанию госуслуг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90CF-B42A-4ED6-A96A-2459AAB84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9400" y="620640"/>
            <a:ext cx="8994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"/>
              </a:rPr>
              <a:t>Форма госзад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268280"/>
            <a:ext cx="71294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чная форма устанавливается Правительством РФ </a:t>
            </a: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(может расширяться по решению ФОИ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формы задания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777777"/>
                </a:solidFill>
                <a:latin typeface="Arial"/>
              </a:rPr>
              <a:t>1) задание на оказание услуг, 2) задание на выполнение раб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2593800"/>
          <a:ext cx="8713800" cy="4150080"/>
        </p:xfrm>
        <a:graphic>
          <a:graphicData uri="http://schemas.openxmlformats.org/drawingml/2006/table">
            <a:tbl>
              <a:tblPr/>
              <a:tblGrid>
                <a:gridCol w="2808360"/>
                <a:gridCol w="5905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Раздел гос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Что планируется изменить/сохрани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ыписка из Р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ключается (в соответствии с законом 83-ФЗ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пределение потреб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став информации о потребителях в ГЗ упрощае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казатели качества и объ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охраняются, показатели качества делятся на 3 группы, вводятся минимальные требования к их утвержд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оказания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прощается (сохраняются ссылки на НПА и требования к информированию потребителей, исключаются детальные требования к имуществу, кадр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орядок контроля и досрочного прек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в госзадании (количество представляемой информации сохраняетс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едельные цены (тариф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Уточняется формат таблиц (количество информации сохраняется) – платные услуги в рамках госздания не предоставляют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ребования к отчетности об исполнении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cc99"/>
                        </a:buClr>
                        <a:buSzPct val="13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иводится форма отчета, расширенная по сравнению с действующим вариа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020000" y="1557360"/>
            <a:ext cx="2016000" cy="647640"/>
          </a:xfrm>
          <a:prstGeom prst="wedgeRoundRectCallout">
            <a:avLst>
              <a:gd name="adj1" fmla="val -68976"/>
              <a:gd name="adj2" fmla="val -52939"/>
              <a:gd name="adj3" fmla="val 16667"/>
            </a:avLst>
          </a:prstGeom>
          <a:solidFill>
            <a:srgbClr val="ffff99"/>
          </a:solidFill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м. Приложения 1, 2 к Полож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A20A-7CFF-48AB-99C7-AC408DA96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оказатели качества госуслуг, включаемые в госзадание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487520"/>
            <a:ext cx="86486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результату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блюдаются требования к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процессу и условиям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оказания услуг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указанные в ведомственном перечне госуслуг - обязательно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- дополнительные для данного ФГУ (вопрос к обсуждению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показателе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(БЕЗ УСТАНОВЛЕНИЯ ИХ ЗНАЧЕНИЙ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, возможны формулировки «сохранение», «рост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нижение»), по которым будут оцениваться результаты оказания госулсуг (деятельность ФГУ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олько указанные в ведомственном перечне (установление индивидуальных показателей оценки не допускается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DA74-3288-4DB1-9E36-A269AEC81F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Расчетно-нормативные затраты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1547640" y="1449360"/>
            <a:ext cx="6264360" cy="648000"/>
          </a:xfrm>
          <a:prstGeom prst="rect">
            <a:avLst/>
          </a:prstGeom>
          <a:noFill/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Методические рекомендации Минфина Росс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(Приказ 105н в новой редакци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2349360"/>
            <a:ext cx="835164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Arial"/>
              </a:rPr>
              <a:t>Общие принципы сохраняютс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Разделение затрат на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ние услуг (выполнение работ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имущества в «спящем» режиме (30% от расходов, вопрос к обсуждению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3 способа определения нормативов на услуг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Возможность дифференциации норматив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D6F-D2CB-4FF6-AA70-A66AA4BDFB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345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ФОРМУЛА РАСЧЕТА ЗАТРАТ НА </a:t>
            </a:r>
            <a:br>
              <a:rPr sz="1600"/>
            </a:br>
            <a:r>
              <a:rPr b="1" lang="ru-RU" sz="1600" spc="-1" strike="noStrike">
                <a:solidFill>
                  <a:srgbClr val="000099"/>
                </a:solidFill>
                <a:latin typeface="Arial Narrow"/>
              </a:rPr>
              <a:t>ОКАЗАНИЕ ГОСУДАРСТВЕННОЙ УСЛУГИ</a:t>
            </a:r>
            <a:endParaRPr b="0" lang="en-US" sz="1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2575080" y="1344600"/>
            <a:ext cx="3671640" cy="865080"/>
          </a:xfrm>
          <a:prstGeom prst="flowChartAlternateProcess">
            <a:avLst/>
          </a:prstGeom>
          <a:solidFill>
            <a:srgbClr val="969696">
              <a:alpha val="4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Rectangle 3"/>
              <p:cNvSpPr txBox="1"/>
              <p:nvPr/>
            </p:nvSpPr>
            <p:spPr>
              <a:xfrm>
                <a:off x="2830680" y="1422360"/>
                <a:ext cx="3139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у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очр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∗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641520" y="2652840"/>
            <a:ext cx="850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 Narrow"/>
              </a:rPr>
              <a:t>оч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– норматив затрат на оказание единицы государственной услуги ФОИВ (ФБУ) на соответствующий финансовый г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ki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личество единиц оказания одной государственной услуги в соответствующем финансовом го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076640"/>
            <a:ext cx="8353440" cy="647640"/>
          </a:xfrm>
          <a:prstGeom prst="rect">
            <a:avLst/>
          </a:prstGeom>
          <a:solidFill>
            <a:srgbClr val="969696">
              <a:alpha val="4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Ы РАСЧЕТА НОРМАТ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ТРАТ НА ОКАЗАНИЕ ЕДИНИЦЫ ГОСУДАРСТВЕННОЙ 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5840" y="4581000"/>
            <a:ext cx="7272000" cy="1080000"/>
            <a:chOff x="915840" y="4581000"/>
            <a:chExt cx="7272000" cy="1080000"/>
          </a:xfrm>
        </p:grpSpPr>
        <p:sp>
          <p:nvSpPr>
            <p:cNvPr id="224" name=""/>
            <p:cNvSpPr/>
            <p:nvPr/>
          </p:nvSpPr>
          <p:spPr>
            <a:xfrm>
              <a:off x="91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орматив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3584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труктур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56200" y="5229000"/>
              <a:ext cx="2231640" cy="432000"/>
            </a:xfrm>
            <a:prstGeom prst="rect">
              <a:avLst/>
            </a:prstGeom>
            <a:solidFill>
              <a:srgbClr val="969696">
                <a:alpha val="4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экспертны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4235760" y="4725720"/>
              <a:ext cx="1080" cy="50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22" idx="2"/>
              <a:endCxn id="224" idx="0"/>
            </p:cNvCxnSpPr>
            <p:nvPr/>
          </p:nvCxnSpPr>
          <p:spPr>
            <a:xfrm rot="5400000">
              <a:off x="2731680" y="3725280"/>
              <a:ext cx="648360" cy="235980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22" idx="2"/>
              <a:endCxn id="226" idx="0"/>
            </p:cNvCxnSpPr>
            <p:nvPr/>
          </p:nvCxnSpPr>
          <p:spPr>
            <a:xfrm flipH="1" rot="16200000">
              <a:off x="5058720" y="3758040"/>
              <a:ext cx="648360" cy="229392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30" name=""/>
          <p:cNvSpPr/>
          <p:nvPr/>
        </p:nvSpPr>
        <p:spPr>
          <a:xfrm>
            <a:off x="1332000" y="5950080"/>
            <a:ext cx="9144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5950080"/>
            <a:ext cx="71892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3200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602136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11280" y="6237360"/>
            <a:ext cx="136872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3640" y="6021360"/>
            <a:ext cx="71928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6381720"/>
            <a:ext cx="718920" cy="287280"/>
          </a:xfrm>
          <a:prstGeom prst="rect">
            <a:avLst/>
          </a:prstGeom>
          <a:solidFill>
            <a:srgbClr val="80808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88000" y="6308640"/>
            <a:ext cx="136836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Номер слайда 4"/>
          <p:cNvSpPr/>
          <p:nvPr/>
        </p:nvSpPr>
        <p:spPr>
          <a:xfrm>
            <a:off x="655308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64FD482-0DFF-4279-800B-B53AE43072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416C-7056-410C-B3E3-45E87EC424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6240" y="336240"/>
            <a:ext cx="75502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000" spc="-1" strike="noStrike">
                <a:solidFill>
                  <a:srgbClr val="514185"/>
                </a:solidFill>
                <a:latin typeface="Times New Roman"/>
              </a:rPr>
              <a:t>Направления развития нормативов</a:t>
            </a:r>
            <a:endParaRPr b="0" lang="en-US" sz="20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2448000" y="1227240"/>
            <a:ext cx="4128840" cy="766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РМАТИВ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нансового обеспечения государственных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52280" y="3124080"/>
            <a:ext cx="1540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диви-дуа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809720" y="3352680"/>
            <a:ext cx="1981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коэффициен-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3924360" y="3789360"/>
            <a:ext cx="182880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мати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5796000" y="4437000"/>
            <a:ext cx="1846080" cy="118764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равоч-ные коэф-фици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524720" y="4869000"/>
            <a:ext cx="1619280" cy="1187280"/>
          </a:xfrm>
          <a:prstGeom prst="rect">
            <a:avLst/>
          </a:prstGeom>
          <a:solidFill>
            <a:srgbClr val="c8d6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-муль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AutoShape 9"/>
          <p:cNvCxnSpPr>
            <a:stCxn id="240" idx="1"/>
            <a:endCxn id="241" idx="0"/>
          </p:cNvCxnSpPr>
          <p:nvPr/>
        </p:nvCxnSpPr>
        <p:spPr>
          <a:xfrm flipV="1" rot="10800000">
            <a:off x="921600" y="1611000"/>
            <a:ext cx="1526400" cy="1513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7" name="AutoShape 10"/>
          <p:cNvCxnSpPr>
            <a:stCxn id="240" idx="1"/>
            <a:endCxn id="242" idx="0"/>
          </p:cNvCxnSpPr>
          <p:nvPr/>
        </p:nvCxnSpPr>
        <p:spPr>
          <a:xfrm flipH="1" flipV="1" rot="10800000">
            <a:off x="2446920" y="1610280"/>
            <a:ext cx="353160" cy="1742040"/>
          </a:xfrm>
          <a:prstGeom prst="bentConnector4">
            <a:avLst>
              <a:gd name="adj1" fmla="val -64795"/>
              <a:gd name="adj2" fmla="val 60975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8" name="AutoShape 11"/>
          <p:cNvCxnSpPr>
            <a:stCxn id="240" idx="2"/>
            <a:endCxn id="243" idx="0"/>
          </p:cNvCxnSpPr>
          <p:nvPr/>
        </p:nvCxnSpPr>
        <p:spPr>
          <a:xfrm flipH="1" rot="16200000">
            <a:off x="3778200" y="2728440"/>
            <a:ext cx="1796040" cy="326160"/>
          </a:xfrm>
          <a:prstGeom prst="bentConnector3">
            <a:avLst>
              <a:gd name="adj1" fmla="val 49939"/>
            </a:avLst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49" name="AutoShape 12"/>
          <p:cNvCxnSpPr>
            <a:stCxn id="240" idx="3"/>
            <a:endCxn id="244" idx="0"/>
          </p:cNvCxnSpPr>
          <p:nvPr/>
        </p:nvCxnSpPr>
        <p:spPr>
          <a:xfrm>
            <a:off x="6576480" y="1611000"/>
            <a:ext cx="143640" cy="2826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0" name="AutoShape 13"/>
          <p:cNvCxnSpPr>
            <a:stCxn id="240" idx="3"/>
            <a:endCxn id="245" idx="0"/>
          </p:cNvCxnSpPr>
          <p:nvPr/>
        </p:nvCxnSpPr>
        <p:spPr>
          <a:xfrm>
            <a:off x="6576840" y="1611000"/>
            <a:ext cx="1758240" cy="325836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51" name="AutoShape 14"/>
          <p:cNvCxnSpPr/>
          <p:nvPr/>
        </p:nvCxnSpPr>
        <p:spPr>
          <a:xfrm>
            <a:off x="1042920" y="4652640"/>
            <a:ext cx="6555600" cy="15850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52" name="Text Box 15"/>
          <p:cNvSpPr/>
          <p:nvPr/>
        </p:nvSpPr>
        <p:spPr>
          <a:xfrm>
            <a:off x="2050920" y="5516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BDE-1C9A-485D-A05B-F1C94B7E6B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732720" y="2349360"/>
            <a:ext cx="2232000" cy="1511280"/>
          </a:xfrm>
          <a:prstGeom prst="wedgeRoundRectCallout">
            <a:avLst>
              <a:gd name="adj1" fmla="val -199856"/>
              <a:gd name="adj2" fmla="val -32458"/>
              <a:gd name="adj3" fmla="val 16667"/>
            </a:avLst>
          </a:prstGeom>
          <a:solidFill>
            <a:srgbClr val="cc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случаях, если иное не предусмотрено федеральным законодательст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14185"/>
                </a:solidFill>
                <a:latin typeface="Arial Narrow"/>
              </a:rPr>
              <a:t>Вопросы, урегулированные в Методических рекомендациях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60200" y="1487520"/>
            <a:ext cx="678816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Описание подходов к организации работы по составлению государственных заданий для казенных, бюджетных и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 Narrow"/>
              </a:rPr>
              <a:t>автономных</a:t>
            </a: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 учреждений, в т.ч.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составлению и утверждению перечней государственных услуг (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b2b2b2"/>
                </a:solidFill>
                <a:latin typeface="Arial Narrow"/>
              </a:rPr>
              <a:t>разработке и утверждению требований к качеству услуг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заполнению формы государственного задания (для услуг и работ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0000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комендации по осуществлению контроля за выполнением государственного задания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2421000"/>
            <a:ext cx="2952720" cy="165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92CE-B192-462A-9396-3A772B0460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1760" y="856800"/>
            <a:ext cx="772452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перечня платных услуг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360360" y="2286000"/>
            <a:ext cx="8478720" cy="3643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формирует исчерпывающий перечень платных услуг для каждого подведомственного учрежд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формирует и утверждает единый исчерпывающий перечень платных услуг, а учреждение определяет какие услуги из данного перечня оно оказывае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учреждение формирует и утверждает перечень платных услуг по согласованию с учредител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учреждение самостоятельно  формирует и утверждает перечень платных услу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B366-35F4-4F06-81BF-CA389DC77B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Нормы законодательства РФ, регулирующие работу с </a:t>
            </a:r>
            <a:br>
              <a:rPr sz="2200"/>
            </a:b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государственными (муниципальными) заданиями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1300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ействующи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10160" y="141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Новые нор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276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184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юджетный кодекс РФ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6, ст.69.2, 78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256536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(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3500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 некоммерческих организац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9.2, ст.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213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«Об автономных учреждениях»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4, ст.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0000" y="443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закон №83-ФЗ </a:t>
            </a:r>
            <a:r>
              <a:rPr b="0" i="1" lang="ru-RU" sz="1800" spc="-1" strike="noStrike">
                <a:solidFill>
                  <a:srgbClr val="8383e1"/>
                </a:solidFill>
                <a:latin typeface="Arial"/>
              </a:rPr>
              <a:t>(ст.3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81080" y="1413000"/>
            <a:ext cx="4105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7840" y="1863720"/>
            <a:ext cx="1440" cy="149400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249228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357720"/>
            <a:ext cx="216000" cy="0"/>
          </a:xfrm>
          <a:prstGeom prst="line">
            <a:avLst/>
          </a:prstGeom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1628640"/>
            <a:ext cx="0" cy="29527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206064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270828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364500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4581360"/>
            <a:ext cx="21600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008680"/>
            <a:ext cx="5184720" cy="1838160"/>
          </a:xfrm>
          <a:prstGeom prst="rect">
            <a:avLst/>
          </a:prstGeom>
          <a:solidFill>
            <a:srgbClr val="eaeaea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зменены: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организаций, для которых составляется госзад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госзад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раничения на включение в госзадание платных услу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1B90-6D18-43D3-9DA9-5CFD8B8343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6672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0" lang="ru-RU" sz="1700" spc="-1" strike="noStrike">
                <a:solidFill>
                  <a:srgbClr val="800000"/>
                </a:solidFill>
                <a:latin typeface="Arial Narrow"/>
                <a:ea typeface="Arial"/>
              </a:rPr>
              <a:t>Варианты утверждения цен (тарифов) на платные услуги</a:t>
            </a:r>
            <a:endParaRPr b="0" lang="en-US" sz="17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85880" y="2104920"/>
            <a:ext cx="7643880" cy="423756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1) учредитель утверждает состав затрат и цены (тарифы) по каждой платной услуге, оказываемой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2) учредитель утверждает предельные цены (тарифы) на каждую платную услугу, оказываемую подведомственными бюджетными учреждениям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3) бюджетное учреждение утверждает цены на оказываемые им платные услуги по согласованию с учредителем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(4) бюджетное учреждение самостоятельно утверждает цены на оказываемые им платные услуг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8223-4219-4800-8249-9B2088668B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642960" y="1428840"/>
          <a:ext cx="7643880" cy="4513320"/>
        </p:xfrm>
        <a:graphic>
          <a:graphicData uri="http://schemas.openxmlformats.org/drawingml/2006/table">
            <a:tbl>
              <a:tblPr/>
              <a:tblGrid>
                <a:gridCol w="1528920"/>
                <a:gridCol w="1528560"/>
                <a:gridCol w="1528920"/>
                <a:gridCol w="1528560"/>
                <a:gridCol w="1528920"/>
              </a:tblGrid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16165d"/>
                          </a:solidFill>
                          <a:latin typeface="Arial Narrow"/>
                          <a:ea typeface="Arial"/>
                        </a:rPr>
                        <a:t>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для каждого учрежд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выбирает из перечня, утвержденного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- состав затрат и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бол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дитель  - предельные це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по согласованию с учреди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66"/>
                          </a:solidFill>
                          <a:latin typeface="Arial Narrow"/>
                          <a:ea typeface="Arial"/>
                        </a:rPr>
                        <a:t>Учреждение самостоятель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 Narrow"/>
                          <a:ea typeface="Arial"/>
                        </a:rPr>
                        <a:t>Наименее жесткий вариа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62" name="Прямоугольный треугольник 16"/>
          <p:cNvSpPr/>
          <p:nvPr/>
        </p:nvSpPr>
        <p:spPr>
          <a:xfrm>
            <a:off x="642960" y="1428840"/>
            <a:ext cx="1500120" cy="1285920"/>
          </a:xfrm>
          <a:prstGeom prst="rtTriangle">
            <a:avLst/>
          </a:prstGeom>
          <a:solidFill>
            <a:srgbClr val="00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  <a:ea typeface="Arial"/>
              </a:rPr>
              <a:t>Ц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Стрелка вправо 17"/>
          <p:cNvGrpSpPr/>
          <p:nvPr/>
        </p:nvGrpSpPr>
        <p:grpSpPr>
          <a:xfrm>
            <a:off x="2787480" y="2981160"/>
            <a:ext cx="4997160" cy="2791080"/>
            <a:chOff x="2787480" y="2981160"/>
            <a:chExt cx="4997160" cy="2791080"/>
          </a:xfrm>
        </p:grpSpPr>
        <p:pic>
          <p:nvPicPr>
            <p:cNvPr id="264" name="Стрелка вправо 17" descr=""/>
            <p:cNvPicPr/>
            <p:nvPr/>
          </p:nvPicPr>
          <p:blipFill>
            <a:blip r:embed="rId1"/>
            <a:stretch/>
          </p:blipFill>
          <p:spPr>
            <a:xfrm>
              <a:off x="2787480" y="2981160"/>
              <a:ext cx="4997160" cy="27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rot="1425600">
              <a:off x="2712960" y="3997440"/>
              <a:ext cx="4995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Box 18"/>
          <p:cNvSpPr/>
          <p:nvPr/>
        </p:nvSpPr>
        <p:spPr>
          <a:xfrm>
            <a:off x="421272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728460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5712840" y="30002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428400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264096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271260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5784120" y="38577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421272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Box 26"/>
          <p:cNvSpPr/>
          <p:nvPr/>
        </p:nvSpPr>
        <p:spPr>
          <a:xfrm>
            <a:off x="7355880" y="3786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27"/>
          <p:cNvSpPr/>
          <p:nvPr/>
        </p:nvSpPr>
        <p:spPr>
          <a:xfrm>
            <a:off x="5784120" y="4643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7284600" y="4714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30"/>
          <p:cNvSpPr/>
          <p:nvPr/>
        </p:nvSpPr>
        <p:spPr>
          <a:xfrm>
            <a:off x="58557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1"/>
          <p:cNvSpPr/>
          <p:nvPr/>
        </p:nvSpPr>
        <p:spPr>
          <a:xfrm>
            <a:off x="264096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32"/>
          <p:cNvSpPr/>
          <p:nvPr/>
        </p:nvSpPr>
        <p:spPr>
          <a:xfrm>
            <a:off x="4212720" y="55008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34"/>
          <p:cNvSpPr/>
          <p:nvPr/>
        </p:nvSpPr>
        <p:spPr>
          <a:xfrm>
            <a:off x="3212640" y="3071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35"/>
          <p:cNvSpPr/>
          <p:nvPr/>
        </p:nvSpPr>
        <p:spPr>
          <a:xfrm>
            <a:off x="7713000" y="56437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D69C-A130-45D0-B76A-A1FCA87A61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9040" y="6919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Уточнение формы госзадания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1341360"/>
            <a:ext cx="82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69.2 БК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(М)З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2492280"/>
            <a:ext cx="1081080" cy="64260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ыписку из РР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2349360"/>
            <a:ext cx="2808360" cy="1465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казатели, характеризующие состав, качество и (или) объем (содержание) оказываемых Г(М)У (выполняемых работ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2205000"/>
            <a:ext cx="2160720" cy="157356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контроля за исполнением Г(М)З, в том числе условия и порядок его досрочного прекращ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08720" y="1628640"/>
            <a:ext cx="1549440" cy="1191240"/>
          </a:xfrm>
          <a:prstGeom prst="rect">
            <a:avLst/>
          </a:prstGeom>
          <a:solidFill>
            <a:srgbClr val="e7f5fd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ребования к отчетности об исполнении Г(М)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4959360"/>
            <a:ext cx="2952720" cy="146556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пределение категорий физических и (или) юридических лиц, являющихся потребителями соответствующих 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5013360"/>
            <a:ext cx="1440000" cy="91692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рядок оказания услуг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4437000"/>
            <a:ext cx="3529080" cy="1739880"/>
          </a:xfrm>
          <a:prstGeom prst="rect">
            <a:avLst/>
          </a:prstGeom>
          <a:solidFill>
            <a:srgbClr val="ccccff"/>
          </a:solidFill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редельные цены (тарифы) на оплату услуг либо порядок установления указанных цен (тарифов) </a:t>
            </a:r>
            <a:r>
              <a:rPr b="0" lang="ru-RU" sz="1800" spc="-1" strike="noStrike">
                <a:solidFill>
                  <a:srgbClr val="cc0000"/>
                </a:solidFill>
                <a:latin typeface="Arial Narrow"/>
              </a:rPr>
              <a:t>в случаях, установленных законодательством Р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( ПРОБЛЕМА)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407664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(М)З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казание услуг так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о содерж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206064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060640"/>
            <a:ext cx="0" cy="28872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1989000"/>
            <a:ext cx="259236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2000" y="1989000"/>
            <a:ext cx="0" cy="2178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1844640"/>
            <a:ext cx="403200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4527720"/>
            <a:ext cx="0" cy="43164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4437000"/>
            <a:ext cx="0" cy="57456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4221000"/>
            <a:ext cx="1512720" cy="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221000"/>
            <a:ext cx="0" cy="216000"/>
          </a:xfrm>
          <a:prstGeom prst="line">
            <a:avLst/>
          </a:prstGeom>
          <a:ln w="28440">
            <a:solidFill>
              <a:srgbClr val="8383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133720"/>
            <a:ext cx="1296720" cy="129528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3640" y="2133720"/>
            <a:ext cx="1223640" cy="143964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2852640"/>
            <a:ext cx="720720" cy="0"/>
          </a:xfrm>
          <a:prstGeom prst="line">
            <a:avLst/>
          </a:prstGeom>
          <a:ln w="2844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07C-048A-4C2B-B666-618F7178BB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"/>
              </a:rPr>
              <a:t>В государственное задание могут быть включены</a:t>
            </a:r>
            <a:r>
              <a:rPr b="1" lang="en-US" sz="2600" spc="-1" strike="noStrike">
                <a:solidFill>
                  <a:srgbClr val="514185"/>
                </a:solidFill>
                <a:latin typeface="Arial"/>
              </a:rPr>
              <a:t>:</a:t>
            </a:r>
            <a:r>
              <a:rPr b="0" lang="ru-RU" sz="2600" spc="-1" strike="noStrike">
                <a:solidFill>
                  <a:srgbClr val="514185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тные услуги, если в федеральном законе предусмотрена возможность оказания их за пла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ОЛНИТЕЛЬ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 (по отношению к подразумеваемому, но четко не определенному «стандарту») платные услуги, если в федеральном законе предусмотрена такая возможность (указана для образования, здравоохранения, библиотек, архивов…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те платные услуги, возможность оказания которых в рамках государственного за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СРЕДСТВЕН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усмотрена федеральным закон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а данный момент отсутствуют, нужно ли вносить изменения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F423-9F12-4A8A-A944-340BC9BD4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1424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Arial Narrow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х возможность оказания любых платных услуг</a:t>
            </a:r>
            <a:endParaRPr b="0" lang="en-US" sz="2400" spc="-1" strike="noStrike">
              <a:solidFill>
                <a:srgbClr val="514185"/>
              </a:solidFill>
              <a:latin typeface="Arial Narrow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00040" y="2276640"/>
          <a:ext cx="8286840" cy="3600000"/>
        </p:xfrm>
        <a:graphic>
          <a:graphicData uri="http://schemas.openxmlformats.org/drawingml/2006/table">
            <a:tbl>
              <a:tblPr/>
              <a:tblGrid>
                <a:gridCol w="1712880"/>
                <a:gridCol w="657396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сновы законодательства Российской Федерации 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ультуре» (№3612-1, ст. 52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Цены (тарифы) на платные услуги и продукцию, включая цены на билеты, организации культуры устанавливают самостоятельн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Социальное обслуживание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сновах социального обслуживания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i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Российской Федерации»  (№ 195-ФЗ, ст. 15):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Социальное обслуживание осуществляется …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1280" indent="-3412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бесплатно и за плат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8799-E413-4E17-8709-4BF1301BEA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57120" y="78588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4185"/>
                </a:solidFill>
                <a:latin typeface="Times New Roman"/>
              </a:rPr>
              <a:t> </a:t>
            </a:r>
            <a:br>
              <a:rPr sz="3600"/>
            </a:br>
            <a:r>
              <a:rPr b="1" lang="ru-RU" sz="2400" spc="-1" strike="noStrike">
                <a:solidFill>
                  <a:srgbClr val="514185"/>
                </a:solidFill>
                <a:latin typeface="Arial"/>
              </a:rPr>
              <a:t>Примеры федеральных законов, предусматривающие возможность оказания дополнительных платных услу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76C-DA9C-448F-85F4-765C854CCE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28760" y="1928880"/>
          <a:ext cx="8429400" cy="4403520"/>
        </p:xfrm>
        <a:graphic>
          <a:graphicData uri="http://schemas.openxmlformats.org/drawingml/2006/table">
            <a:tbl>
              <a:tblPr/>
              <a:tblGrid>
                <a:gridCol w="2071440"/>
                <a:gridCol w="635796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образовании» (ст. 19, 41, 45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осударственное и муниципальное образователь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учреждения вправе оказывать … пла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ДОПОЛНИТЕЛЬНЫЕ образовательные услуг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Здравоохран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Основы законодательства об охране здоров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 (ст. 20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Граждане имеют право на ДОПОЛНИТЕЛЬНЫЕ медицинские и иные услуги … за счет средств предприятий, учреждений и организаций, своих личных средств и иных источ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Библиотечное обслужи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 библиотечном деле»  (№78-ФЗ, ст. 7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В общедоступных библиотеках граждане имеют право…пользоваться ДРУГИМИ видами услуг, в том числе платными, перечень которых определяется правилами пользования библиотек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Архивное де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«Об архивном деле»  (№ 125-ФЗ, ст. 26):</a:t>
                      </a:r>
                      <a:r>
                        <a:rPr b="0" i="1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     …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архивы, музеи, библиотеки, а также государственные и муниципальные организации могут… оказывать пользователю архивными документами платные ИНФОРМАЦИОННЫЕ услуг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3394-F5E6-4AB4-A0D0-0DEE51B345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Предложение</a:t>
            </a:r>
            <a:r>
              <a:rPr b="1" lang="en-US" sz="2600" spc="-1" strike="noStrike">
                <a:solidFill>
                  <a:srgbClr val="514185"/>
                </a:solidFill>
                <a:latin typeface="Arial Narrow"/>
              </a:rPr>
              <a:t>: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1920" y="1413000"/>
            <a:ext cx="8488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ВКЛЮЧАТЬ В ГОСУДАРСТВЕННОЕ ЗАДАНИЕ НИКАКИЕ ПЛАТНЫЕ УСЛУГИ И НЕ ВНОСИТЬ ИЗМЕНЕНИЯ В ЗАКОНЫ, ПОЗВОЛЯЮЩИЕ ЭТО ДЕЛ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аждая платная услуга –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дельная услуга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в том числе четко отделенная от основной (оказываемой в рамках госзадания) услуги (включая более комфортные условия их оказания, дополнительные расходные материалы, более высокая квалификация персонала и т.д.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ля учреждений культуры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едметом госзадания (услугой) являются результаты деятельности учреждения (постановки, экспозиции, экскурсии, сохранность и доступность фондов и т.д.), а число посетителей – лишь один из показателей их качества (не планируется)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7683-51BB-4B7A-9BAB-D69B640480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14185"/>
                </a:solidFill>
                <a:latin typeface="Arial Narrow"/>
              </a:rPr>
              <a:t>Полномочия по регулированию порядка формирования и финансового обеспечения госзадания (на федеральном уровне)</a:t>
            </a:r>
            <a:endParaRPr b="0" lang="en-US" sz="22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484280"/>
            <a:ext cx="395928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тельство Р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определение порядка формирования и финансового обеспечения (общие требования) – постановления № 1065 от 29.12.2008 (новая редакция) и № 182 от 18.03.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расчету нормативных затрат (приказы 105н от 22.10.2009 и 134 от 17.04.2009 (с учетом поправок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фин и Минэконом-разви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тодрекомендации по формированию и финансовому обеспечению госзаданий (совместный приказ, нов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2781360"/>
            <a:ext cx="352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Министерства – базовые (отраслевые) перечни госуслу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99"/>
                </a:solidFill>
                <a:latin typeface="Arial"/>
              </a:rPr>
              <a:t>ФОИВ -  ведомственные перечни госуслуг, порядок формирования и финан-сового обеспечения госзаданий, утверждение госзаданий, контро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360" y="2205000"/>
            <a:ext cx="433440" cy="4319640"/>
          </a:xfrm>
          <a:custGeom>
            <a:avLst/>
            <a:gdLst>
              <a:gd name="textAreaLeft" fmla="*/ 0 w 433440"/>
              <a:gd name="textAreaRight" fmla="*/ 156600 w 43344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15B2-6C2D-44CF-BECA-0AA6772EDB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14185"/>
                </a:solidFill>
                <a:latin typeface="Arial Narrow"/>
              </a:rPr>
              <a:t>Организация работы с госзаданием</a:t>
            </a:r>
            <a:endParaRPr b="0" lang="en-US" sz="2600" spc="-1" strike="noStrike">
              <a:solidFill>
                <a:srgbClr val="514185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1484280"/>
            <a:ext cx="8569080" cy="49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тверждение (уточнение) базового (отраслевого) перечня госуслуг – Министерства в сферах ведения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ОИВ для подведомственных госучреждений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чняет) ведомственный перечень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(уточняет) порядок определения расчетно-нормативных зат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требования к качеству госуслуг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формирования и финансового обеспечения госзаданий (может включать пункты 2 и 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ает порядок осуществления контроля за выполнением госзадания (может быть объединен с пунктом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ует и утверждает госзадания, рассчитывает (в пределах бюджетных ассигнований) субсид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числяет в установленном порядке субсидии (в рамках кассового план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spcBef>
                <a:spcPts val="201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уществляет контроль за исполнением госзаданий (в т.ч. проводит проверку отчетност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8323-172A-4FC0-A3D8-E6952D374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user</cp:lastModifiedBy>
  <cp:lastPrinted>2009-06-02T16:42:35Z</cp:lastPrinted>
  <dcterms:modified xsi:type="dcterms:W3CDTF">2010-06-23T19:12:24Z</dcterms:modified>
  <cp:revision>985</cp:revision>
  <dc:subject/>
  <dc:title>No Slide Title</dc:title>
</cp:coreProperties>
</file>