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09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5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376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385128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7FBE7-4E35-455B-8B19-F145EF07F5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AC3B0-83AA-41F5-97DE-9205D27BD1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8E681-B07C-4D1E-8FBE-D241EF304A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024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BF064-B390-47F3-94A0-4CB801395E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024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17C40-89D0-4418-955B-B2DEBA1186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3024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5B9CE-BBC4-4532-B197-337B46EB81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024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E3487-EC10-40CB-8EB9-3F7510E582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EAE78-441E-4400-8E68-363499BB0F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AC103-F99F-4C18-8792-6C5FF0274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DEF15-50E8-4556-BA1A-5F5DD81330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3F9FE-872F-4160-B442-1D62B68502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93AFB-F226-4511-A252-CEE2585BD4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583F1-43B0-4E60-B4EE-C6BA96D9F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544BC-5CC6-4F68-8F0F-668BA791B9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BA8-2E7A-44DC-A071-7667960F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045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8045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C09-9AFA-43B4-8C01-E14EFF15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1720" y="385524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94D-DCEF-48BE-8755-53CC582B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6680" y="148752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13520" y="148752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6680" y="385524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13520" y="385524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83C-198A-4EDE-87EE-CD9D9CD1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045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55E-6BFF-4728-88D5-FA545403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045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F90-FE40-4CC8-9FB0-7C4BE36B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6BA-500A-42E4-9EDE-760BC7C7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B2A-B7CB-4239-B9C8-E74B70CA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8668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4F6-6B7D-4A0B-88E7-0C404DA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FE3-6E54-41B6-A4C6-0FC77374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1720" y="385524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290-8A3D-4856-86E3-7B94D01F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8045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C6F-82F5-49A4-AD14-23DE2A9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455760"/>
            <a:ext cx="185760" cy="6402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00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1440" y="457200"/>
            <a:ext cx="9144000" cy="19692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045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.09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5830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5C13271-05EF-4590-A496-BD0FA7DE8A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BF2E43C-0A15-4FE2-9A87-353130AEE6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01336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i="1" lang="en-GB" sz="2000" spc="-1" strike="noStrike">
                <a:solidFill>
                  <a:srgbClr val="22228b"/>
                </a:solidFill>
                <a:latin typeface="Arial"/>
              </a:rPr>
              <a:t>Докладчик: Романов Сергей Владимирович -заместитель директора Департамента бюджетной политики и методологии Минфина Ро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237360"/>
            <a:ext cx="8991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июнь 2010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24280"/>
            <a:ext cx="9144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Организация бухгалтерского учета, отчетности и бюджетной классификации  в целях обеспечения деятельности государственных и муниципаль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38160" y="1009800"/>
            <a:ext cx="879480" cy="10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FEEC32F-3B08-4546-B64A-FC83D3A818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692280"/>
            <a:ext cx="3743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514185"/>
                </a:solidFill>
                <a:latin typeface="Times New Roman"/>
              </a:rPr>
              <a:t>Цели и задач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0920" y="1197000"/>
            <a:ext cx="8712000" cy="5064120"/>
            <a:chOff x="250920" y="1197000"/>
            <a:chExt cx="8712000" cy="5064120"/>
          </a:xfrm>
        </p:grpSpPr>
        <p:sp>
          <p:nvSpPr>
            <p:cNvPr id="107" name=""/>
            <p:cNvSpPr/>
            <p:nvPr/>
          </p:nvSpPr>
          <p:spPr>
            <a:xfrm>
              <a:off x="250920" y="1197000"/>
              <a:ext cx="2879640" cy="915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Целевая статья расходо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0560" y="1197000"/>
              <a:ext cx="3454560" cy="915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Вид расходо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85120" y="1197000"/>
              <a:ext cx="2376360" cy="915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КОСГ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920" y="2111400"/>
              <a:ext cx="287964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Классификация </a:t>
              </a:r>
              <a:r>
                <a:rPr b="0" lang="en-GB" sz="2200" spc="-1" strike="noStrike">
                  <a:solidFill>
                    <a:srgbClr val="3333cc"/>
                  </a:solidFill>
                  <a:latin typeface="Times New Roman"/>
                </a:rPr>
                <a:t>расходов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в соответствии с расходными обязательствами, подлежащими исполнению за счет средств бюджета, в разрезе программно-целевых и проектных показателе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30560" y="2111400"/>
              <a:ext cx="345456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Классификация 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расходов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по видам бюджетных ассигнований в соответствии с положениями бюджетного законодательств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Группировка однородных по видам операций в целях управления бюджетным процессом по расходам и контроля за его исполнением в привязке к определенным требованиям по сонкционировани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85120" y="2111400"/>
              <a:ext cx="237636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Классификация </a:t>
              </a:r>
              <a:r>
                <a:rPr b="0" lang="en-GB" sz="2200" spc="-1" strike="noStrike">
                  <a:solidFill>
                    <a:srgbClr val="3333cc"/>
                  </a:solidFill>
                  <a:latin typeface="Arial"/>
                </a:rPr>
                <a:t>операций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по их экономическому содержанию в соответствии с международными стандартами СГФ и СН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0560" y="1197000"/>
              <a:ext cx="1440" cy="506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85120" y="1197000"/>
              <a:ext cx="1440" cy="506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0920" y="2111400"/>
              <a:ext cx="8710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920" y="1197000"/>
              <a:ext cx="1440" cy="506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961480" y="1197000"/>
              <a:ext cx="1440" cy="506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0920" y="1197000"/>
              <a:ext cx="871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0920" y="6259680"/>
              <a:ext cx="871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1E3A1F9-A4EC-4DFF-B8D4-6DF8E67727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49360"/>
            <a:ext cx="864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Классификация</a:t>
            </a:r>
            <a:r>
              <a:rPr b="1" lang="en-GB" sz="3400" spc="-1" strike="noStrike">
                <a:solidFill>
                  <a:srgbClr val="514185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целей и задач ВР (пример)</a:t>
            </a: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08000" y="1052640"/>
            <a:ext cx="8893080" cy="5727600"/>
            <a:chOff x="108000" y="1052640"/>
            <a:chExt cx="8893080" cy="5727600"/>
          </a:xfrm>
        </p:grpSpPr>
        <p:sp>
          <p:nvSpPr>
            <p:cNvPr id="123" name=""/>
            <p:cNvSpPr/>
            <p:nvPr/>
          </p:nvSpPr>
          <p:spPr>
            <a:xfrm>
              <a:off x="108000" y="1052640"/>
              <a:ext cx="8891640" cy="1135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Бюджетные ассигнования на предоставление субсидий в целях оказания государственных (муниципальных) услу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1 Уровень  (группа)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8000" y="2187720"/>
              <a:ext cx="2232000" cy="45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1828800"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2 Уровень (подгруппа)</a:t>
              </a:r>
              <a:r>
                <a:rPr b="0" lang="en-GB" sz="15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Субсидии бюджетным учреждения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Субсидии автономным учреждения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Субсидии некоммерческим организациям (кроме БУ и АУ) в соответствии с договорами (соглашениями) на оказание ими государственных (муниципальных) услу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40000" y="2187720"/>
              <a:ext cx="6659640" cy="45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3 Уровень (элемент)</a:t>
              </a:r>
              <a:r>
                <a:rPr b="0" lang="en-GB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Субсидии бюджетным учреждениям на возмещение нормативных затрат по оказанию ими государственных (муниципальных) услу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Субсидии бюджетным учреждениям, за исключением субсидий на возмещение нормативных затрат по оказанию ими государственных (муниципальных) услу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Субсидии автономным учреждениям на возмещение нормативных затрат по оказанию ими государственных (муниципальных) услу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Субсидии автономным учреждениям, за исключением субсидий на возмещение нормативных затрат по оказанию ими государственных (муниципальных) услуг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0000" y="2187720"/>
              <a:ext cx="1440" cy="45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000" y="2187720"/>
              <a:ext cx="889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000" y="1052640"/>
              <a:ext cx="1440" cy="572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99640" y="1052640"/>
              <a:ext cx="1440" cy="572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8000" y="1052640"/>
              <a:ext cx="889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8000" y="6778800"/>
              <a:ext cx="889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A4D81F-ABDA-45C8-AE5A-C93098D437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549360"/>
            <a:ext cx="864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Классификация</a:t>
            </a:r>
            <a:r>
              <a:rPr b="1" lang="en-GB" sz="3400" spc="-1" strike="noStrike">
                <a:solidFill>
                  <a:srgbClr val="514185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целей и задач ВР(пример)</a:t>
            </a: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8000" y="1052640"/>
            <a:ext cx="8893080" cy="5740200"/>
            <a:chOff x="108000" y="1052640"/>
            <a:chExt cx="8893080" cy="5740200"/>
          </a:xfrm>
        </p:grpSpPr>
        <p:sp>
          <p:nvSpPr>
            <p:cNvPr id="135" name=""/>
            <p:cNvSpPr/>
            <p:nvPr/>
          </p:nvSpPr>
          <p:spPr>
            <a:xfrm>
              <a:off x="108000" y="1052640"/>
              <a:ext cx="8891640" cy="43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- 1 Уровень  (группа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8000" y="1484280"/>
              <a:ext cx="2232000" cy="53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1828800"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2 Уровень (подгруппа)</a:t>
              </a:r>
              <a:r>
                <a:rPr b="0" lang="en-GB" sz="15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учреждения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унитарным предприятия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иным юридическим лицам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40000" y="1484280"/>
              <a:ext cx="6659640" cy="53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3 Уровень (элемент)</a:t>
              </a:r>
              <a:r>
                <a:rPr b="0" lang="en-GB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казенным учреждения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бюджетным учреждения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автономным учреждения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унитарным предприятиям, основанным на праве оперативного управл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унитарным предприятиям, основанным на праве хозяйственного вед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0000" y="1484280"/>
              <a:ext cx="1440" cy="530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000" y="1484280"/>
              <a:ext cx="8891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000" y="1052640"/>
              <a:ext cx="1440" cy="573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99640" y="1052640"/>
              <a:ext cx="1440" cy="573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8000" y="1052640"/>
              <a:ext cx="889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000" y="6791400"/>
              <a:ext cx="889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19280"/>
            <a:ext cx="8147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Закон 83-ФЗ 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Закон 129-ФЗ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Проект Закона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Международные стандарты финансовой отчетности общественного сек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Цели и задачи государственного бухгалтерского уч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413000"/>
            <a:ext cx="814716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Закон 83-Ф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Федеральный закон от 12 января 1996 года № 7-ФЗ "О некоммерческих организациях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Статья 9.1. Государственные, муниципальные учр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. Государственными, муниципальными учреждениями признаются учреждения, созданные Российской Федерацией, субъектом Российской Федерации и муниципальным образова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. Типами государственных, муниципальных учреждений признаются автономные, бюджетные и казенн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тья 17.1. Изменение типа государственного или муниципального учрежд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. Изменение типа государственного или муниципального учреждения не является его реорганизацией. При изменении типа государственного или муниципального учреждения в его учредительные документы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вносятся соответствующие из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619280"/>
            <a:ext cx="8147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Федеральный закон 129-ФЗ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Статья 8.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сновные требования к ведению бухгалтерского у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Бухгалтерский учет ведется организацией непрерывно с момента ее регистрации в качестве юридического лица до реорганизации или ликвидации в порядке, установленном законодательством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619280"/>
            <a:ext cx="814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Международные стандарты финансовой отчетности общественного сектора (МСФООС)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Критерий </a:t>
            </a:r>
            <a:r>
              <a:rPr b="0" lang="en-GB" sz="2200" spc="-1" strike="noStrike">
                <a:solidFill>
                  <a:srgbClr val="2300dc"/>
                </a:solidFill>
                <a:latin typeface="Times New Roman"/>
              </a:rPr>
              <a:t>“СЕРВИСНЫЙ ПОТЕНЦИАЛ”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- один из основных при принятии решения о принадлежности организации к сектору государственного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274480" y="2131920"/>
          <a:ext cx="3227400" cy="7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4480" y="2131920"/>
                    <a:ext cx="3227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9640" y="4106880"/>
          <a:ext cx="8109000" cy="237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106880"/>
                    <a:ext cx="810900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62440" y="3530520"/>
            <a:ext cx="137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частна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62440" y="3532320"/>
            <a:ext cx="137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частна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67360" y="3516480"/>
            <a:ext cx="26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государственна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619280"/>
            <a:ext cx="8147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60360" y="1623960"/>
          <a:ext cx="675648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623960"/>
                    <a:ext cx="675648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320840" y="6119640"/>
            <a:ext cx="6959520" cy="14400"/>
          </a:xfrm>
          <a:custGeom>
            <a:avLst/>
            <a:gdLst/>
            <a:ahLst/>
            <a:rect l="l" t="t" r="r" b="b"/>
            <a:pathLst>
              <a:path w="19332" h="40">
                <a:moveTo>
                  <a:pt x="0" y="39"/>
                </a:moveTo>
                <a:cubicBezTo>
                  <a:pt x="14746" y="39"/>
                  <a:pt x="5081" y="0"/>
                  <a:pt x="19331" y="0"/>
                </a:cubicBezTo>
              </a:path>
            </a:pathLst>
          </a:custGeom>
          <a:noFill/>
          <a:ln w="14400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619280"/>
            <a:ext cx="8147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Проект Федерального закона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Статья 20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Документы в области бухгалтерского уч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. К документам в области бухгалтерского учета, используемым на территории Российской Федерации, относятся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) национальные стандар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) отраслевые стандар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3) рекомендации в области бухгалтерского учет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4) стандарты экономического субъек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. Национальные и отраслевые стандарты обязательны к применению экономическими субъектами, если иное не установлено в этих стандарт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484280"/>
            <a:ext cx="84596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Проект Федерального закона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Национальные стандарты независимо от вида экономической деятельности устанавлив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) план счетов бухгалтерского учета и порядок его применения, за исключением плана счетов бухгалтерского учета для кредитных организаций и порядка его примен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. Национальные стандарты могут устанавливать специальные требования к бухгалтерскому учету, включая учетную политику, план счетов бухгалтерского учета и порядок его применения, организаций бюджетной сферы, а также к бухгалтерскому учету отдельных видов эконом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. Отраслевые стандарты устанавливают особенности применения национальных стандартов в отдельных видах экономической деятельности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05520" y="5219640"/>
            <a:ext cx="2160720" cy="1203480"/>
          </a:xfrm>
          <a:prstGeom prst="roundRect">
            <a:avLst>
              <a:gd name="adj" fmla="val 13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65520" y="5219640"/>
            <a:ext cx="2340000" cy="1203480"/>
          </a:xfrm>
          <a:prstGeom prst="roundRect">
            <a:avLst>
              <a:gd name="adj" fmla="val 13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620640"/>
            <a:ext cx="8991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Концепция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5520" y="5219640"/>
            <a:ext cx="2340000" cy="1203480"/>
          </a:xfrm>
          <a:prstGeom prst="roundRect">
            <a:avLst>
              <a:gd name="adj" fmla="val 13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160" y="5219640"/>
            <a:ext cx="5154480" cy="1203480"/>
          </a:xfrm>
          <a:prstGeom prst="roundRect">
            <a:avLst>
              <a:gd name="adj" fmla="val 13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учетная политика (стандарты) экономического су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0" y="3925800"/>
            <a:ext cx="2879640" cy="1306440"/>
          </a:xfrm>
          <a:prstGeom prst="roundRect">
            <a:avLst>
              <a:gd name="adj" fmla="val 12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нструкция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бухгалтерскому уче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с типовым ПСче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9640" y="3925800"/>
            <a:ext cx="1800360" cy="1306440"/>
          </a:xfrm>
          <a:prstGeom prst="roundRect">
            <a:avLst>
              <a:gd name="adj" fmla="val 12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3911760"/>
            <a:ext cx="2879640" cy="1306440"/>
          </a:xfrm>
          <a:prstGeom prst="roundRect">
            <a:avLst>
              <a:gd name="adj" fmla="val 12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нструкция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бюджетному уче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с типовым ПСче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741760"/>
            <a:ext cx="2711520" cy="1182600"/>
          </a:xfrm>
          <a:prstGeom prst="roundRect">
            <a:avLst>
              <a:gd name="adj" fmla="val 134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траслевые стандар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562040"/>
            <a:ext cx="3960720" cy="1182600"/>
          </a:xfrm>
          <a:prstGeom prst="roundRect">
            <a:avLst>
              <a:gd name="adj" fmla="val 134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Единый План с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ых (муниципальных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78200" y="2730600"/>
            <a:ext cx="2702160" cy="1182600"/>
          </a:xfrm>
          <a:prstGeom prst="roundRect">
            <a:avLst>
              <a:gd name="adj" fmla="val 134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8840" y="1619280"/>
            <a:ext cx="2095560" cy="9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-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норматив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24720" y="2982960"/>
            <a:ext cx="14763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-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4292640"/>
            <a:ext cx="151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-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5445000"/>
            <a:ext cx="14032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-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385</cp:lastModifiedBy>
  <cp:revision>0</cp:revision>
  <dc:subject/>
  <dc:title>No Slide Title</dc:title>
</cp:coreProperties>
</file>