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43E-AF57-4FAA-BE62-B8D8449A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CC8-EC25-47D1-9D71-2B504BCC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BB4-137F-4388-9452-2BFDFFD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320-11AA-4F23-8642-0DCAC08E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C46-442F-4278-878D-B2F529D2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554-11E6-4B51-95BD-905E728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962-8205-4BCA-83E9-67D2542E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70D-16E8-4F57-AC57-0B218DA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C2D-2BA7-4C56-8CC1-7A916857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FFB-7EF3-414E-B92C-9F70575B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3D7-9D73-4091-A8B3-1E1DA77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D98-20E1-4771-90F9-0E73A15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F35-A84B-4FDF-AD33-8AAC1D32A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06:55:35Z</dcterms:modified>
  <cp:revision>691</cp:revision>
  <dc:subject/>
  <dc:title>Слайд 1</dc:title>
</cp:coreProperties>
</file>