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63C-34CD-46D8-A9F8-EEBB8E0D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A05-696C-4E54-B9A7-18D38E3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FEA-E9D5-43FC-8D5F-8AD17BBC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1A4-D456-4208-8EF7-B8408DC9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750-B59D-4D35-B715-AD9EFED1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DF3-1AC7-4ABC-A4EB-41BBE793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2E3-4F42-4A7B-9120-6C901A11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A6C-7233-4615-80CF-6B5CAF96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C14-C05D-4743-AC61-3313918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967-9C40-42F7-9D2E-67518BA8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0D1-2EEB-4715-81DA-DE68AEA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F83-DD76-4337-86DD-002367B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DFC4-B824-4AB4-945F-EFB0B8E4D1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абзацем вторым части 1 статьи 78.1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пунктом 5 статьи 79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будет разработан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взыскании в соответствующий бюджет неиспользованных остатков субсидий, предоставленных из бюджетов бюджетной системы Российской Федерации государственным (муниципальным) учреждения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бюджетных учреждений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автономных учреждений, лицевые счета которым открыты в территориальных органах Федерального казначейства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я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6F6-2BAD-4D9E-B8BC-DAFF838A32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счета в ЦБ РФ или кредитн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44640"/>
            <a:ext cx="91440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федеральных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 Федерального казначейства откр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учреждении Центрального банк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счет на балансовом счете № 40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в федеральной собственности. Финансовые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F14-0F59-44D6-86EB-EA25AB8EF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8520" y="1484280"/>
            <a:ext cx="9015480" cy="4827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Учет по КОСГУ и кодам субси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8577200">
            <a:off x="67320" y="2071080"/>
            <a:ext cx="22431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Сведения об операциях с субсидиями, предоставленными Г(М)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+</a:t>
            </a:r>
            <a:r>
              <a:rPr b="0" i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70F-1C65-47DB-8621-30CAC4965F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3360" y="1500120"/>
            <a:ext cx="9015480" cy="484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Учет по КОСГУ НЕ вед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8C4-4C47-4072-8144-4CA761A3CB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бращение взыскания на средства бюджетных учрежде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6F5-B90C-477D-952B-42EFA06F9C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08000" y="785880"/>
            <a:ext cx="903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Особенности обращения взыскания на средства бюджетных учрежд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557360"/>
          <a:ext cx="813600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3600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A92-B28C-4767-A6EE-F76592F27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 и ведение совместно с Минэкономразвития России официального сайта Российской Федерации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Министерства экономического развития Российской Федерации и Федерального казначейства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ядке регистрации пользователей и пользования официальным сайтом Российской Федерации в сети «Интернет» для размещения информации о размещении заказов на поставки товаров, выполнение работ, оказание услуг для государственных и муниципальных нуж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0FB-F61A-4061-8F47-F461E8B53F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te4"/>
          <p:cNvSpPr/>
          <p:nvPr/>
        </p:nvSpPr>
        <p:spPr>
          <a:xfrm>
            <a:off x="617400" y="5691240"/>
            <a:ext cx="8267760" cy="9698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te4"/>
          <p:cNvSpPr/>
          <p:nvPr/>
        </p:nvSpPr>
        <p:spPr>
          <a:xfrm>
            <a:off x="4970520" y="5757840"/>
            <a:ext cx="3959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ГУП, МУ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убъекты естественных монопол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изации с долей государственного учас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Иные юридические л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заимодействие клиентов с О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ame3"/>
          <p:cNvSpPr/>
          <p:nvPr/>
        </p:nvSpPr>
        <p:spPr>
          <a:xfrm>
            <a:off x="2112840" y="1173240"/>
            <a:ext cx="6772320" cy="2547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ame3"/>
          <p:cNvSpPr/>
          <p:nvPr/>
        </p:nvSpPr>
        <p:spPr>
          <a:xfrm>
            <a:off x="582480" y="4319640"/>
            <a:ext cx="8298000" cy="121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лномоч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te4"/>
          <p:cNvSpPr/>
          <p:nvPr/>
        </p:nvSpPr>
        <p:spPr>
          <a:xfrm>
            <a:off x="2495520" y="1531800"/>
            <a:ext cx="1811520" cy="2040120"/>
          </a:xfrm>
          <a:custGeom>
            <a:avLst/>
            <a:gdLst>
              <a:gd name="textAreaLeft" fmla="*/ 88200 w 1811520"/>
              <a:gd name="textAreaRight" fmla="*/ 1723320 w 1811520"/>
              <a:gd name="textAreaTop" fmla="*/ 88200 h 2040120"/>
              <a:gd name="textAreaBottom" fmla="*/ 1951920 h 2040120"/>
            </a:gdLst>
            <a:ahLst/>
            <a:rect l="textAreaLeft" t="textAreaTop" r="textAreaRight" b="textAreaBottom"/>
            <a:pathLst>
              <a:path w="21600" h="24325">
                <a:moveTo>
                  <a:pt x="3600" y="0"/>
                </a:moveTo>
                <a:arcTo wR="3600" hR="3600" stAng="16200000" swAng="-5400000"/>
                <a:lnTo>
                  <a:pt x="0" y="20725"/>
                </a:lnTo>
                <a:arcTo wR="3600" hR="3600" stAng="10800000" swAng="-5400000"/>
                <a:lnTo>
                  <a:pt x="18000" y="24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b" anchorCtr="1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te4"/>
          <p:cNvSpPr/>
          <p:nvPr/>
        </p:nvSpPr>
        <p:spPr>
          <a:xfrm>
            <a:off x="5581800" y="1519200"/>
            <a:ext cx="3112920" cy="2054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te4"/>
          <p:cNvSpPr/>
          <p:nvPr/>
        </p:nvSpPr>
        <p:spPr>
          <a:xfrm>
            <a:off x="1987560" y="4560840"/>
            <a:ext cx="9954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te4"/>
          <p:cNvSpPr/>
          <p:nvPr/>
        </p:nvSpPr>
        <p:spPr>
          <a:xfrm>
            <a:off x="386856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te4"/>
          <p:cNvSpPr/>
          <p:nvPr/>
        </p:nvSpPr>
        <p:spPr>
          <a:xfrm>
            <a:off x="204624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te4"/>
          <p:cNvSpPr/>
          <p:nvPr/>
        </p:nvSpPr>
        <p:spPr>
          <a:xfrm>
            <a:off x="568152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te4"/>
          <p:cNvSpPr/>
          <p:nvPr/>
        </p:nvSpPr>
        <p:spPr>
          <a:xfrm>
            <a:off x="749448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0"/>
            <a:endCxn id="105" idx="2"/>
          </p:cNvCxnSpPr>
          <p:nvPr/>
        </p:nvCxnSpPr>
        <p:spPr>
          <a:xfrm flipV="1">
            <a:off x="3669840" y="3572640"/>
            <a:ext cx="1080" cy="8960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plate4"/>
          <p:cNvSpPr/>
          <p:nvPr/>
        </p:nvSpPr>
        <p:spPr>
          <a:xfrm>
            <a:off x="706320" y="5681520"/>
            <a:ext cx="4137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государственной власти (местного самоуправления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управления ГВБ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Бюджетные учрежд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27520" y="2808360"/>
            <a:ext cx="30736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te4"/>
          <p:cNvSpPr/>
          <p:nvPr/>
        </p:nvSpPr>
        <p:spPr>
          <a:xfrm>
            <a:off x="7908840" y="3355920"/>
            <a:ext cx="658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te4"/>
          <p:cNvSpPr/>
          <p:nvPr/>
        </p:nvSpPr>
        <p:spPr>
          <a:xfrm>
            <a:off x="8158320" y="1917720"/>
            <a:ext cx="6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te4"/>
          <p:cNvSpPr/>
          <p:nvPr/>
        </p:nvSpPr>
        <p:spPr>
          <a:xfrm>
            <a:off x="7961400" y="2522520"/>
            <a:ext cx="249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7899120" y="203004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829280" y="287460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te4"/>
          <p:cNvSpPr/>
          <p:nvPr/>
        </p:nvSpPr>
        <p:spPr>
          <a:xfrm>
            <a:off x="2577960" y="341784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te4"/>
          <p:cNvSpPr/>
          <p:nvPr/>
        </p:nvSpPr>
        <p:spPr>
          <a:xfrm>
            <a:off x="3894120" y="4473720"/>
            <a:ext cx="544680" cy="14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te4"/>
          <p:cNvSpPr/>
          <p:nvPr/>
        </p:nvSpPr>
        <p:spPr>
          <a:xfrm>
            <a:off x="7943760" y="1555920"/>
            <a:ext cx="65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1"/>
            <a:endCxn id="118" idx="3"/>
          </p:cNvCxnSpPr>
          <p:nvPr/>
        </p:nvCxnSpPr>
        <p:spPr>
          <a:xfrm flipH="1">
            <a:off x="1181880" y="221112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9" name="plate4"/>
          <p:cNvSpPr/>
          <p:nvPr/>
        </p:nvSpPr>
        <p:spPr>
          <a:xfrm>
            <a:off x="2496960" y="27813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te4"/>
          <p:cNvSpPr/>
          <p:nvPr/>
        </p:nvSpPr>
        <p:spPr>
          <a:xfrm>
            <a:off x="2496960" y="213372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0520" y="1196640"/>
            <a:ext cx="531720" cy="2592360"/>
            <a:chOff x="650520" y="1196640"/>
            <a:chExt cx="531720" cy="2592360"/>
          </a:xfrm>
        </p:grpSpPr>
        <p:sp>
          <p:nvSpPr>
            <p:cNvPr id="121" name="plate4"/>
            <p:cNvSpPr/>
            <p:nvPr/>
          </p:nvSpPr>
          <p:spPr>
            <a:xfrm rot="10800000">
              <a:off x="650520" y="1196640"/>
              <a:ext cx="531720" cy="2592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2800" bIns="46800" anchor="t" anchorCtr="1" vert="eaVer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частники закуп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late4"/>
            <p:cNvSpPr/>
            <p:nvPr/>
          </p:nvSpPr>
          <p:spPr>
            <a:xfrm>
              <a:off x="774000" y="213372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late4"/>
            <p:cNvSpPr/>
            <p:nvPr/>
          </p:nvSpPr>
          <p:spPr>
            <a:xfrm>
              <a:off x="774000" y="278136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19" idx="1"/>
            <a:endCxn id="122" idx="3"/>
          </p:cNvCxnSpPr>
          <p:nvPr/>
        </p:nvCxnSpPr>
        <p:spPr>
          <a:xfrm flipH="1">
            <a:off x="1181880" y="285876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4" name=""/>
          <p:cNvSpPr/>
          <p:nvPr/>
        </p:nvSpPr>
        <p:spPr>
          <a:xfrm rot="10800000">
            <a:off x="7829280" y="220788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te4"/>
          <p:cNvSpPr/>
          <p:nvPr/>
        </p:nvSpPr>
        <p:spPr>
          <a:xfrm>
            <a:off x="5640480" y="3808440"/>
            <a:ext cx="113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ведения об организации, подтверждающие документ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te4"/>
          <p:cNvSpPr/>
          <p:nvPr/>
        </p:nvSpPr>
        <p:spPr>
          <a:xfrm rot="5400000">
            <a:off x="3936600" y="2490480"/>
            <a:ext cx="59040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te4"/>
          <p:cNvSpPr/>
          <p:nvPr/>
        </p:nvSpPr>
        <p:spPr>
          <a:xfrm>
            <a:off x="1247760" y="2349360"/>
            <a:ext cx="90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лучение информации по закупк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te4"/>
          <p:cNvSpPr/>
          <p:nvPr/>
        </p:nvSpPr>
        <p:spPr>
          <a:xfrm>
            <a:off x="2577960" y="2314440"/>
            <a:ext cx="1595520" cy="44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сайт Российской Федерации в 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te4"/>
          <p:cNvSpPr/>
          <p:nvPr/>
        </p:nvSpPr>
        <p:spPr>
          <a:xfrm>
            <a:off x="3081240" y="34178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te4"/>
          <p:cNvSpPr/>
          <p:nvPr/>
        </p:nvSpPr>
        <p:spPr>
          <a:xfrm>
            <a:off x="2577960" y="45705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te4"/>
          <p:cNvSpPr/>
          <p:nvPr/>
        </p:nvSpPr>
        <p:spPr>
          <a:xfrm>
            <a:off x="3081240" y="4468680"/>
            <a:ext cx="61272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te4"/>
          <p:cNvSpPr/>
          <p:nvPr/>
        </p:nvSpPr>
        <p:spPr>
          <a:xfrm>
            <a:off x="3851280" y="4076640"/>
            <a:ext cx="70308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te4"/>
          <p:cNvSpPr/>
          <p:nvPr/>
        </p:nvSpPr>
        <p:spPr>
          <a:xfrm>
            <a:off x="814392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te4"/>
          <p:cNvSpPr/>
          <p:nvPr/>
        </p:nvSpPr>
        <p:spPr>
          <a:xfrm rot="5400000">
            <a:off x="6797160" y="2020680"/>
            <a:ext cx="663840" cy="14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 flipV="1">
            <a:off x="7740360" y="3573000"/>
            <a:ext cx="1080" cy="766080"/>
          </a:xfrm>
          <a:prstGeom prst="bentConnector2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4" name="plate4"/>
          <p:cNvSpPr/>
          <p:nvPr/>
        </p:nvSpPr>
        <p:spPr>
          <a:xfrm>
            <a:off x="7829640" y="4076640"/>
            <a:ext cx="703080" cy="16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te4"/>
          <p:cNvSpPr/>
          <p:nvPr/>
        </p:nvSpPr>
        <p:spPr>
          <a:xfrm>
            <a:off x="631044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 flipH="1" flipV="1" rot="5400000">
            <a:off x="5904360" y="3391200"/>
            <a:ext cx="180108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plate4"/>
          <p:cNvSpPr/>
          <p:nvPr/>
        </p:nvSpPr>
        <p:spPr>
          <a:xfrm>
            <a:off x="7058160" y="432576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/>
          <p:nvPr/>
        </p:nvCxnSpPr>
        <p:spPr>
          <a:xfrm flipV="1" rot="10800000">
            <a:off x="4355280" y="2203920"/>
            <a:ext cx="2561400" cy="2520"/>
          </a:xfrm>
          <a:prstGeom prst="bentConnector3">
            <a:avLst>
              <a:gd name="adj1" fmla="val 5002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plate4"/>
          <p:cNvSpPr/>
          <p:nvPr/>
        </p:nvSpPr>
        <p:spPr>
          <a:xfrm rot="5400000">
            <a:off x="3940200" y="2165400"/>
            <a:ext cx="590400" cy="13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te4"/>
          <p:cNvSpPr/>
          <p:nvPr/>
        </p:nvSpPr>
        <p:spPr>
          <a:xfrm>
            <a:off x="6372360" y="306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te4"/>
          <p:cNvSpPr/>
          <p:nvPr/>
        </p:nvSpPr>
        <p:spPr>
          <a:xfrm>
            <a:off x="6292800" y="1825560"/>
            <a:ext cx="1951200" cy="6336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Сводный перечень заказчи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te4"/>
          <p:cNvSpPr/>
          <p:nvPr/>
        </p:nvSpPr>
        <p:spPr>
          <a:xfrm>
            <a:off x="6975360" y="2386080"/>
            <a:ext cx="71136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67560" y="2093760"/>
            <a:ext cx="1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te4"/>
          <p:cNvSpPr/>
          <p:nvPr/>
        </p:nvSpPr>
        <p:spPr>
          <a:xfrm>
            <a:off x="5504040" y="34909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te4"/>
          <p:cNvSpPr/>
          <p:nvPr/>
        </p:nvSpPr>
        <p:spPr>
          <a:xfrm rot="5400000">
            <a:off x="5329800" y="1815120"/>
            <a:ext cx="590760" cy="6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5120" bIns="1512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te4"/>
          <p:cNvSpPr/>
          <p:nvPr/>
        </p:nvSpPr>
        <p:spPr>
          <a:xfrm>
            <a:off x="5438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тролирую-щи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te4"/>
          <p:cNvSpPr/>
          <p:nvPr/>
        </p:nvSpPr>
        <p:spPr>
          <a:xfrm>
            <a:off x="658656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Финансов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te4"/>
          <p:cNvSpPr/>
          <p:nvPr/>
        </p:nvSpPr>
        <p:spPr>
          <a:xfrm>
            <a:off x="77104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ОО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Э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te4"/>
          <p:cNvSpPr/>
          <p:nvPr/>
        </p:nvSpPr>
        <p:spPr>
          <a:xfrm>
            <a:off x="2638440" y="3735360"/>
            <a:ext cx="731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Информация по закупк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te4"/>
          <p:cNvSpPr/>
          <p:nvPr/>
        </p:nvSpPr>
        <p:spPr>
          <a:xfrm>
            <a:off x="5275440" y="449100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te4"/>
          <p:cNvSpPr/>
          <p:nvPr/>
        </p:nvSpPr>
        <p:spPr>
          <a:xfrm rot="5400000">
            <a:off x="3949200" y="1779480"/>
            <a:ext cx="59076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te4"/>
          <p:cNvSpPr/>
          <p:nvPr/>
        </p:nvSpPr>
        <p:spPr>
          <a:xfrm>
            <a:off x="4186080" y="1903320"/>
            <a:ext cx="1500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Информация об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организация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te4"/>
          <p:cNvSpPr/>
          <p:nvPr/>
        </p:nvSpPr>
        <p:spPr>
          <a:xfrm>
            <a:off x="4295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пециализиро-ванная орган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te4"/>
          <p:cNvSpPr/>
          <p:nvPr/>
        </p:nvSpPr>
        <p:spPr>
          <a:xfrm>
            <a:off x="3135240" y="4560840"/>
            <a:ext cx="9972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олномочен-н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te4"/>
          <p:cNvSpPr/>
          <p:nvPr/>
        </p:nvSpPr>
        <p:spPr>
          <a:xfrm>
            <a:off x="1898640" y="4471920"/>
            <a:ext cx="3456000" cy="960480"/>
          </a:xfrm>
          <a:prstGeom prst="rect">
            <a:avLst/>
          </a:prstGeom>
          <a:noFill/>
          <a:ln w="1908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te4"/>
          <p:cNvSpPr/>
          <p:nvPr/>
        </p:nvSpPr>
        <p:spPr>
          <a:xfrm>
            <a:off x="7491240" y="433872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te4"/>
          <p:cNvSpPr/>
          <p:nvPr/>
        </p:nvSpPr>
        <p:spPr>
          <a:xfrm>
            <a:off x="7585200" y="45925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te4"/>
          <p:cNvSpPr/>
          <p:nvPr/>
        </p:nvSpPr>
        <p:spPr>
          <a:xfrm>
            <a:off x="7491240" y="350028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te4"/>
          <p:cNvSpPr/>
          <p:nvPr/>
        </p:nvSpPr>
        <p:spPr>
          <a:xfrm>
            <a:off x="2179800" y="56912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te4"/>
          <p:cNvSpPr/>
          <p:nvPr/>
        </p:nvSpPr>
        <p:spPr>
          <a:xfrm>
            <a:off x="331632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te4"/>
          <p:cNvSpPr/>
          <p:nvPr/>
        </p:nvSpPr>
        <p:spPr>
          <a:xfrm>
            <a:off x="4465800" y="56786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te4"/>
          <p:cNvSpPr/>
          <p:nvPr/>
        </p:nvSpPr>
        <p:spPr>
          <a:xfrm>
            <a:off x="564840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te4"/>
          <p:cNvSpPr/>
          <p:nvPr/>
        </p:nvSpPr>
        <p:spPr>
          <a:xfrm>
            <a:off x="6877080" y="566100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te4"/>
          <p:cNvSpPr/>
          <p:nvPr/>
        </p:nvSpPr>
        <p:spPr>
          <a:xfrm>
            <a:off x="7934400" y="567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 flipH="1" flipV="1" rot="5400000">
            <a:off x="6086880" y="3424680"/>
            <a:ext cx="1867680" cy="2160"/>
          </a:xfrm>
          <a:prstGeom prst="bentConnector3">
            <a:avLst>
              <a:gd name="adj1" fmla="val 4999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plate4"/>
          <p:cNvSpPr/>
          <p:nvPr/>
        </p:nvSpPr>
        <p:spPr>
          <a:xfrm>
            <a:off x="7023240" y="3811680"/>
            <a:ext cx="67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11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6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0930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24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CEF-8C98-4602-BD77-90E3D23D3DF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за счёт средств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бращение взыск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средства бюджет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ведение совместно с Минэкономразвития России официального сайта РФ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азмещение на сай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1C3-70BC-4B4A-BE2D-79DD8FD9E4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ame3"/>
          <p:cNvSpPr/>
          <p:nvPr/>
        </p:nvSpPr>
        <p:spPr>
          <a:xfrm>
            <a:off x="324000" y="1173240"/>
            <a:ext cx="8424720" cy="3195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960" y="1569960"/>
            <a:ext cx="599292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частников бюджетного процесса федеральн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te4"/>
          <p:cNvSpPr/>
          <p:nvPr/>
        </p:nvSpPr>
        <p:spPr>
          <a:xfrm>
            <a:off x="395280" y="5380200"/>
            <a:ext cx="674388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te4"/>
          <p:cNvSpPr/>
          <p:nvPr/>
        </p:nvSpPr>
        <p:spPr>
          <a:xfrm>
            <a:off x="419904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te4"/>
          <p:cNvSpPr/>
          <p:nvPr/>
        </p:nvSpPr>
        <p:spPr>
          <a:xfrm>
            <a:off x="1403280" y="5369040"/>
            <a:ext cx="27957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федерального уров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te4"/>
          <p:cNvSpPr/>
          <p:nvPr/>
        </p:nvSpPr>
        <p:spPr>
          <a:xfrm>
            <a:off x="30211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te4"/>
          <p:cNvSpPr/>
          <p:nvPr/>
        </p:nvSpPr>
        <p:spPr>
          <a:xfrm>
            <a:off x="4581360" y="5380200"/>
            <a:ext cx="1428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 flipV="1">
            <a:off x="3850920" y="400500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2" name=""/>
          <p:cNvCxnSpPr/>
          <p:nvPr/>
        </p:nvCxnSpPr>
        <p:spPr>
          <a:xfrm>
            <a:off x="5292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3" name="plate4"/>
          <p:cNvSpPr/>
          <p:nvPr/>
        </p:nvSpPr>
        <p:spPr>
          <a:xfrm>
            <a:off x="463860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te4"/>
          <p:cNvSpPr/>
          <p:nvPr/>
        </p:nvSpPr>
        <p:spPr>
          <a:xfrm>
            <a:off x="6924600" y="53690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>
            <a:off x="7020000" y="4220280"/>
            <a:ext cx="2160" cy="1166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frame3"/>
          <p:cNvSpPr/>
          <p:nvPr/>
        </p:nvSpPr>
        <p:spPr>
          <a:xfrm>
            <a:off x="6948360" y="15573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te4"/>
          <p:cNvSpPr/>
          <p:nvPr/>
        </p:nvSpPr>
        <p:spPr>
          <a:xfrm>
            <a:off x="6924600" y="40226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te4"/>
          <p:cNvSpPr/>
          <p:nvPr/>
        </p:nvSpPr>
        <p:spPr>
          <a:xfrm>
            <a:off x="68691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5940360" y="2133360"/>
            <a:ext cx="10152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0" name=""/>
          <p:cNvSpPr/>
          <p:nvPr/>
        </p:nvSpPr>
        <p:spPr>
          <a:xfrm>
            <a:off x="532584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6780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920" y="39402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70028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6120" y="163656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te4"/>
          <p:cNvSpPr/>
          <p:nvPr/>
        </p:nvSpPr>
        <p:spPr>
          <a:xfrm>
            <a:off x="3203640" y="3213000"/>
            <a:ext cx="121752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te4"/>
          <p:cNvSpPr/>
          <p:nvPr/>
        </p:nvSpPr>
        <p:spPr>
          <a:xfrm>
            <a:off x="4651200" y="1738440"/>
            <a:ext cx="128304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te4"/>
          <p:cNvSpPr/>
          <p:nvPr/>
        </p:nvSpPr>
        <p:spPr>
          <a:xfrm>
            <a:off x="5438880" y="4998960"/>
            <a:ext cx="6285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te4"/>
          <p:cNvSpPr/>
          <p:nvPr/>
        </p:nvSpPr>
        <p:spPr>
          <a:xfrm>
            <a:off x="7067520" y="4998960"/>
            <a:ext cx="6303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te4"/>
          <p:cNvSpPr/>
          <p:nvPr/>
        </p:nvSpPr>
        <p:spPr>
          <a:xfrm rot="5400000">
            <a:off x="5565600" y="222876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te4"/>
          <p:cNvSpPr/>
          <p:nvPr/>
        </p:nvSpPr>
        <p:spPr>
          <a:xfrm rot="5400000">
            <a:off x="5558040" y="2736000"/>
            <a:ext cx="5256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 flipH="1">
            <a:off x="5940000" y="227664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6084720" y="220500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te4"/>
          <p:cNvSpPr/>
          <p:nvPr/>
        </p:nvSpPr>
        <p:spPr>
          <a:xfrm>
            <a:off x="381312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5800" y="4481640"/>
            <a:ext cx="1539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te4"/>
          <p:cNvSpPr/>
          <p:nvPr/>
        </p:nvSpPr>
        <p:spPr>
          <a:xfrm>
            <a:off x="2679840" y="5408640"/>
            <a:ext cx="156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te4"/>
          <p:cNvSpPr/>
          <p:nvPr/>
        </p:nvSpPr>
        <p:spPr>
          <a:xfrm>
            <a:off x="583740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28960"/>
            <a:ext cx="5999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17960" y="17654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17960" y="370836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17960" y="20192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7960" y="227340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17960" y="350532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38360" y="219708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46440" y="35053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1979280" y="3573000"/>
            <a:ext cx="11991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16" name="plate4"/>
          <p:cNvSpPr/>
          <p:nvPr/>
        </p:nvSpPr>
        <p:spPr>
          <a:xfrm>
            <a:off x="4651200" y="2610000"/>
            <a:ext cx="128304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95" idx="0"/>
            <a:endCxn id="196" idx="1"/>
          </p:cNvCxnSpPr>
          <p:nvPr/>
        </p:nvCxnSpPr>
        <p:spPr>
          <a:xfrm flipH="1" flipV="1" rot="5400000">
            <a:off x="3683520" y="2244960"/>
            <a:ext cx="1097640" cy="838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8" name=""/>
          <p:cNvSpPr/>
          <p:nvPr/>
        </p:nvSpPr>
        <p:spPr>
          <a:xfrm>
            <a:off x="2610000" y="21528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te4"/>
          <p:cNvSpPr/>
          <p:nvPr/>
        </p:nvSpPr>
        <p:spPr>
          <a:xfrm>
            <a:off x="7227720" y="5380200"/>
            <a:ext cx="147024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te4"/>
          <p:cNvSpPr/>
          <p:nvPr/>
        </p:nvSpPr>
        <p:spPr>
          <a:xfrm>
            <a:off x="7929720" y="4022640"/>
            <a:ext cx="64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 flipV="1">
            <a:off x="7956360" y="4220640"/>
            <a:ext cx="1080" cy="11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22" name=""/>
          <p:cNvSpPr/>
          <p:nvPr/>
        </p:nvSpPr>
        <p:spPr>
          <a:xfrm>
            <a:off x="7996320" y="4530600"/>
            <a:ext cx="866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te4"/>
          <p:cNvSpPr/>
          <p:nvPr/>
        </p:nvSpPr>
        <p:spPr>
          <a:xfrm>
            <a:off x="755640" y="2133720"/>
            <a:ext cx="1211400" cy="16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водный реестр УБП федерального уров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4200" y="3429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0A3-5F15-4F01-AB94-3726F6E723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ame3"/>
          <p:cNvSpPr/>
          <p:nvPr/>
        </p:nvSpPr>
        <p:spPr>
          <a:xfrm>
            <a:off x="1190520" y="1173240"/>
            <a:ext cx="7496280" cy="3195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569960"/>
            <a:ext cx="551340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БП уровня субъекта РФ (МО), ГВБ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te4"/>
          <p:cNvSpPr/>
          <p:nvPr/>
        </p:nvSpPr>
        <p:spPr>
          <a:xfrm>
            <a:off x="1190520" y="5380200"/>
            <a:ext cx="614844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te4"/>
          <p:cNvSpPr/>
          <p:nvPr/>
        </p:nvSpPr>
        <p:spPr>
          <a:xfrm>
            <a:off x="439740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te4"/>
          <p:cNvSpPr/>
          <p:nvPr/>
        </p:nvSpPr>
        <p:spPr>
          <a:xfrm>
            <a:off x="1603440" y="5369040"/>
            <a:ext cx="27939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уровня субъекта РФ (М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осударственные внебюджетные фо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te4"/>
          <p:cNvSpPr/>
          <p:nvPr/>
        </p:nvSpPr>
        <p:spPr>
          <a:xfrm>
            <a:off x="32209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te4"/>
          <p:cNvSpPr/>
          <p:nvPr/>
        </p:nvSpPr>
        <p:spPr>
          <a:xfrm>
            <a:off x="4780080" y="5380200"/>
            <a:ext cx="1428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1" idx="0"/>
          </p:cNvCxnSpPr>
          <p:nvPr/>
        </p:nvCxnSpPr>
        <p:spPr>
          <a:xfrm flipV="1">
            <a:off x="3727080" y="397476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4" name=""/>
          <p:cNvCxnSpPr/>
          <p:nvPr/>
        </p:nvCxnSpPr>
        <p:spPr>
          <a:xfrm>
            <a:off x="5508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5" name="plate4"/>
          <p:cNvSpPr/>
          <p:nvPr/>
        </p:nvSpPr>
        <p:spPr>
          <a:xfrm>
            <a:off x="483696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te4"/>
          <p:cNvSpPr/>
          <p:nvPr/>
        </p:nvSpPr>
        <p:spPr>
          <a:xfrm>
            <a:off x="7122960" y="53690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/>
          <p:nvPr/>
        </p:nvCxnSpPr>
        <p:spPr>
          <a:xfrm flipV="1">
            <a:off x="7164360" y="4291920"/>
            <a:ext cx="2160" cy="10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8" name="frame3"/>
          <p:cNvSpPr/>
          <p:nvPr/>
        </p:nvSpPr>
        <p:spPr>
          <a:xfrm>
            <a:off x="7068960" y="15699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te4"/>
          <p:cNvSpPr/>
          <p:nvPr/>
        </p:nvSpPr>
        <p:spPr>
          <a:xfrm>
            <a:off x="7122960" y="40226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te4"/>
          <p:cNvSpPr/>
          <p:nvPr/>
        </p:nvSpPr>
        <p:spPr>
          <a:xfrm>
            <a:off x="70689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2420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652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14720" y="3948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177336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2640" y="153504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te4"/>
          <p:cNvSpPr/>
          <p:nvPr/>
        </p:nvSpPr>
        <p:spPr>
          <a:xfrm>
            <a:off x="3492360" y="3213000"/>
            <a:ext cx="12178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te4"/>
          <p:cNvSpPr/>
          <p:nvPr/>
        </p:nvSpPr>
        <p:spPr>
          <a:xfrm>
            <a:off x="4859280" y="1773360"/>
            <a:ext cx="12826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te4"/>
          <p:cNvSpPr/>
          <p:nvPr/>
        </p:nvSpPr>
        <p:spPr>
          <a:xfrm>
            <a:off x="1619280" y="3068640"/>
            <a:ext cx="1109520" cy="4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te4"/>
          <p:cNvSpPr/>
          <p:nvPr/>
        </p:nvSpPr>
        <p:spPr>
          <a:xfrm>
            <a:off x="5637240" y="4941720"/>
            <a:ext cx="73512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te4"/>
          <p:cNvSpPr/>
          <p:nvPr/>
        </p:nvSpPr>
        <p:spPr>
          <a:xfrm>
            <a:off x="7267680" y="4941720"/>
            <a:ext cx="68904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te4"/>
          <p:cNvSpPr/>
          <p:nvPr/>
        </p:nvSpPr>
        <p:spPr>
          <a:xfrm rot="5400000">
            <a:off x="5765040" y="2229480"/>
            <a:ext cx="5256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te4"/>
          <p:cNvSpPr/>
          <p:nvPr/>
        </p:nvSpPr>
        <p:spPr>
          <a:xfrm rot="5400000">
            <a:off x="5757840" y="273528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6156000" y="234900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4" name=""/>
          <p:cNvSpPr/>
          <p:nvPr/>
        </p:nvSpPr>
        <p:spPr>
          <a:xfrm>
            <a:off x="6300720" y="227664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te4"/>
          <p:cNvSpPr/>
          <p:nvPr/>
        </p:nvSpPr>
        <p:spPr>
          <a:xfrm>
            <a:off x="401148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437000"/>
            <a:ext cx="1538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te4"/>
          <p:cNvSpPr/>
          <p:nvPr/>
        </p:nvSpPr>
        <p:spPr>
          <a:xfrm>
            <a:off x="2879640" y="5408640"/>
            <a:ext cx="157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te4"/>
          <p:cNvSpPr/>
          <p:nvPr/>
        </p:nvSpPr>
        <p:spPr>
          <a:xfrm rot="16200000">
            <a:off x="-931680" y="2449440"/>
            <a:ext cx="3067200" cy="52380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инансовый орган субъекта РФ (МО), орган управления ГВБ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te4"/>
          <p:cNvSpPr/>
          <p:nvPr/>
        </p:nvSpPr>
        <p:spPr>
          <a:xfrm>
            <a:off x="60357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2928960"/>
            <a:ext cx="5513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17760" y="17654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900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1776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17760" y="20192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3301920"/>
            <a:ext cx="165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36720" y="219708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5920" y="33307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te4"/>
          <p:cNvSpPr/>
          <p:nvPr/>
        </p:nvSpPr>
        <p:spPr>
          <a:xfrm>
            <a:off x="4849920" y="2610000"/>
            <a:ext cx="128268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/>
          <p:nvPr/>
        </p:nvCxnSpPr>
        <p:spPr>
          <a:xfrm flipH="1" flipV="1" rot="5400000">
            <a:off x="3795120" y="2189880"/>
            <a:ext cx="1103400" cy="991440"/>
          </a:xfrm>
          <a:prstGeom prst="bentConnector3">
            <a:avLst>
              <a:gd name="adj1" fmla="val 10045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70" name="plate4"/>
          <p:cNvSpPr/>
          <p:nvPr/>
        </p:nvSpPr>
        <p:spPr>
          <a:xfrm>
            <a:off x="7426440" y="5380200"/>
            <a:ext cx="147132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te4"/>
          <p:cNvSpPr/>
          <p:nvPr/>
        </p:nvSpPr>
        <p:spPr>
          <a:xfrm>
            <a:off x="8128080" y="4022640"/>
            <a:ext cx="66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endCxn id="271" idx="2"/>
          </p:cNvCxnSpPr>
          <p:nvPr/>
        </p:nvCxnSpPr>
        <p:spPr>
          <a:xfrm flipH="1" flipV="1">
            <a:off x="8160480" y="4227120"/>
            <a:ext cx="11880" cy="114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73" name=""/>
          <p:cNvSpPr/>
          <p:nvPr/>
        </p:nvSpPr>
        <p:spPr>
          <a:xfrm>
            <a:off x="8196120" y="4530600"/>
            <a:ext cx="86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7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72560" y="325584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22050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te4"/>
          <p:cNvSpPr/>
          <p:nvPr/>
        </p:nvSpPr>
        <p:spPr>
          <a:xfrm>
            <a:off x="1619280" y="3645000"/>
            <a:ext cx="1109520" cy="471240"/>
          </a:xfrm>
          <a:prstGeom prst="rect">
            <a:avLst/>
          </a:prstGeom>
          <a:solidFill>
            <a:srgbClr val="cc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Дополнительный 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5840" y="3645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2700000" y="342864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79" name=""/>
          <p:cNvCxnSpPr/>
          <p:nvPr/>
        </p:nvCxnSpPr>
        <p:spPr>
          <a:xfrm>
            <a:off x="2700000" y="386028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0" name=""/>
          <p:cNvCxnSpPr/>
          <p:nvPr/>
        </p:nvCxnSpPr>
        <p:spPr>
          <a:xfrm>
            <a:off x="934560" y="383508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1" name=""/>
          <p:cNvCxnSpPr/>
          <p:nvPr/>
        </p:nvCxnSpPr>
        <p:spPr>
          <a:xfrm>
            <a:off x="934560" y="343332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26920" y="3141720"/>
            <a:ext cx="7149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БП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7640" y="3591000"/>
            <a:ext cx="5781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п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6360" y="22050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52F-DD62-4FC3-A34F-056726DDD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азмещение на сайте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Министерства финансов Российской Федерации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порядке предоставления информации о деятельности государственных (муниципальных) учреждений и об использовании закрепленного за ними имущества, ее размещения на официальном сайте в сети Интернет и ведении указанного сайта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7F4-3368-47AA-A517-4E3E0F9C0B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8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Учредительные документ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, в том числе внесённые в них 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идетельство о государственной регистр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создан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назначении руководител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оложения о филиалах, представительства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лан финансово-хозяйственной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довая бухгалтерская отчётнос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ед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 контрольных мероприятия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проведённых в отношении государственного (муниципального) учреждения, и их результат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сударственное (муниципальное) зада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на оказание услуг (выполнение раб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тчёт о результатах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 об использовании закреплённого государственного (муниципального) имущ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5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Сведения, подлежащие размещению на официальном сайте в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остановления Правительства Российской Федерации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Министерства финансо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полнительно: 22 нормативно-правовых акта, вносящих изменения в отдельные акты Правительства Российской Федерации, Министерства финансов Российской Федерации, Федерального казначейства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Количество нормативно-правовых актов, устанавливающих 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229360"/>
            <a:ext cx="864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035-D86D-43CD-9F8B-229ADE32BB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 внесении изменений в приказ Федерального казначейства от 7 октября 2008 г. № 7н «О порядке открытия и ведения лицевых счетов Федеральным казначейством и его территориальными органами»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(проект размещен 21.06.2010 на официальном сайте Минфина России </a:t>
            </a: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minfin.ru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5A7-1608-4CE8-A514-FB55E50ED5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лицевых счетов бюджетных (автономных)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1557360"/>
            <a:ext cx="2449440" cy="5113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268280"/>
          <a:ext cx="8280360" cy="54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28036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95280" y="1484280"/>
            <a:ext cx="2376360" cy="518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865800">
            <a:off x="4847040" y="4962960"/>
            <a:ext cx="51588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089-CE61-4B59-A81F-A039723BD6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бюджетного учрежд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для учета операций со средствами, предоставленными в виде субсидий из бюджета на возмещение нормативных затрат, связанных с оказанием государственных (муниципальных) услуг (выполнением работ) в соответствии с государственным (муниципальным) зад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Отдельный лицевой счёт бюджет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, предоставленными в виде субсидий из бюджетов на иные цели, а также бюджетных инвести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автоном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я учёта операций со средствам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65000"/>
            <a:ext cx="896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иды лицевых счетов, открываемых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 органах Федерального казначейства (финансовых орган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A46-F258-4E5B-A59A-AD3E8663CE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Заявление на открытие лицевого счё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арточка образцов подпис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 лицевому счёту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учредительного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ложения об обособленном подразделении, утверждённого создавшим его бюджетным (автономным) учреждением (в случае открытия лицевого счёта обособленному подразделению), заверенная учредителем либо нотари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документа о государственной регистрации юридического ли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заверенная учредителем или нотариально, либо органом, осуществляющим государственную регистрац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Свидетельства о постановке на учёт юридического лица в налоговом орг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есту нахождения на территории РФ, Уведомления о постановке на учёт в налоговом органе юридического лица (в случае открытия лицевого счёта обособленному подразделению), заверенного нотариально либо выдавшим их налоговым орга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92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Документы, необходимые для открытия лицевых счетов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бюджетным (автономным)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03B-219F-4A9A-8679-84181EF34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за счёт средст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3:01:31Z</dcterms:created>
  <dc:creator>User49</dc:creator>
  <dc:description/>
  <dc:language>en-US</dc:language>
  <cp:lastModifiedBy>АМС</cp:lastModifiedBy>
  <dcterms:modified xsi:type="dcterms:W3CDTF">2010-06-24T05:28:56Z</dcterms:modified>
  <cp:revision>130</cp:revision>
  <dc:subject/>
  <dc:title>О перспективах развития Федерального казначейства</dc:title>
</cp:coreProperties>
</file>